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707188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E72-A856-4BCA-A894-AEB2C7CF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42069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9C5-896F-4FE0-BDA2-55FBCD0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0960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897-6B29-41A4-9053-873B564C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224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9120" y="20574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224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9120" y="42069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A5B-0293-413D-A49F-26C8FF08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289-D0ED-4B0D-82A4-4E7B25DC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818-CDF9-483D-BB5B-5FDB988B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F78-36AD-40C8-A346-C21F311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5DA-AB5F-463E-A3ED-50FBE554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16F-F2CA-4A9B-9DDB-A825EEE0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6DB-7219-4A0D-9EA4-378273AA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9600" y="42069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9C5-D04A-4E61-A4FC-CC274251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9600" y="20574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42069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26D-DB7D-49DD-BEB2-594E833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8AE2-1BCA-493F-8990-01C100A5FBF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85880" y="614052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Joan Drenth 26 April 2001 </a:t>
            </a:r>
            <a:br>
              <a:rPr sz="800"/>
            </a:b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AEB19066-DFA6-497A-A6FF-19000993DD62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" descr=""/>
          <p:cNvPicPr/>
          <p:nvPr/>
        </p:nvPicPr>
        <p:blipFill>
          <a:blip r:embed="rId2"/>
          <a:stretch/>
        </p:blipFill>
        <p:spPr>
          <a:xfrm>
            <a:off x="6997680" y="6089760"/>
            <a:ext cx="774720" cy="276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284480" y="62485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Zurück zum Inh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743040" y="6248520"/>
            <a:ext cx="544320" cy="339480"/>
          </a:xfrm>
          <a:custGeom>
            <a:avLst/>
            <a:gdLst>
              <a:gd name="textAreaLeft" fmla="*/ 21960 w 544320"/>
              <a:gd name="textAreaRight" fmla="*/ 522360 w 544320"/>
              <a:gd name="textAreaTop" fmla="*/ 21960 h 339480"/>
              <a:gd name="textAreaBottom" fmla="*/ 317520 h 339480"/>
            </a:gdLst>
            <a:ahLst/>
            <a:rect l="textAreaLeft" t="textAreaTop" r="textAreaRight" b="textAreaBottom"/>
            <a:pathLst>
              <a:path w="34619" h="21600">
                <a:moveTo>
                  <a:pt x="0" y="0"/>
                </a:moveTo>
                <a:lnTo>
                  <a:pt x="34619" y="0"/>
                </a:lnTo>
                <a:lnTo>
                  <a:pt x="34619" y="21600"/>
                </a:lnTo>
                <a:lnTo>
                  <a:pt x="0" y="21600"/>
                </a:lnTo>
                <a:close/>
              </a:path>
              <a:path fill="lightenLess" w="34619" h="21600">
                <a:moveTo>
                  <a:pt x="0" y="0"/>
                </a:moveTo>
                <a:lnTo>
                  <a:pt x="34619" y="0"/>
                </a:lnTo>
                <a:lnTo>
                  <a:pt x="33219" y="1400"/>
                </a:lnTo>
                <a:lnTo>
                  <a:pt x="1400" y="1400"/>
                </a:lnTo>
                <a:close/>
              </a:path>
              <a:path fill="darken" w="34619" h="21600">
                <a:moveTo>
                  <a:pt x="34619" y="0"/>
                </a:moveTo>
                <a:lnTo>
                  <a:pt x="34619" y="21600"/>
                </a:lnTo>
                <a:lnTo>
                  <a:pt x="33219" y="20200"/>
                </a:lnTo>
                <a:lnTo>
                  <a:pt x="33219" y="1400"/>
                </a:lnTo>
                <a:close/>
              </a:path>
              <a:path fill="darkenLess" w="34619" h="21600">
                <a:moveTo>
                  <a:pt x="34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19" y="20200"/>
                </a:lnTo>
                <a:close/>
              </a:path>
              <a:path fill="lighten" w="34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19" h="21600">
                <a:moveTo>
                  <a:pt x="13811" y="10800"/>
                </a:moveTo>
                <a:lnTo>
                  <a:pt x="24316" y="3794"/>
                </a:lnTo>
                <a:lnTo>
                  <a:pt x="24316" y="17806"/>
                </a:lnTo>
                <a:close/>
              </a:path>
              <a:path fill="darken" w="34619" h="21600">
                <a:moveTo>
                  <a:pt x="10303" y="3794"/>
                </a:moveTo>
                <a:lnTo>
                  <a:pt x="11966" y="3794"/>
                </a:lnTo>
                <a:lnTo>
                  <a:pt x="11966" y="17806"/>
                </a:lnTo>
                <a:lnTo>
                  <a:pt x="1030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Umbau einer Märklin C Weiche  für </a:t>
            </a:r>
            <a:br>
              <a:rPr sz="3200"/>
            </a:b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Rückmeldungen im 3-Leiter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3130560" y="32004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66600" y="3200400"/>
            <a:ext cx="32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eispiel: Fahrstrasse (Einfahrt nach rech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130560" y="27432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2000" y="2743200"/>
            <a:ext cx="18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Elektrische Anschlü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3130560" y="22860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4160" y="228600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Mechanischer Umb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6019920"/>
            <a:ext cx="2806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0560" y="41148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71280" y="411480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Verkabelung mit VSDM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30560" y="36576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6240" y="365760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eispiel: Fahrstrasse (Ausfahrt von lin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0560" y="4572000"/>
            <a:ext cx="412920" cy="304920"/>
          </a:xfrm>
          <a:custGeom>
            <a:avLst/>
            <a:gdLst>
              <a:gd name="textAreaLeft" fmla="*/ 19440 w 412920"/>
              <a:gd name="textAreaRight" fmla="*/ 393480 w 41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242" h="21600">
                <a:moveTo>
                  <a:pt x="0" y="0"/>
                </a:moveTo>
                <a:lnTo>
                  <a:pt x="29242" y="0"/>
                </a:lnTo>
                <a:lnTo>
                  <a:pt x="29242" y="21600"/>
                </a:lnTo>
                <a:lnTo>
                  <a:pt x="0" y="21600"/>
                </a:lnTo>
                <a:close/>
              </a:path>
              <a:path fill="lightenLess" w="29242" h="21600">
                <a:moveTo>
                  <a:pt x="0" y="0"/>
                </a:moveTo>
                <a:lnTo>
                  <a:pt x="29242" y="0"/>
                </a:lnTo>
                <a:lnTo>
                  <a:pt x="27842" y="1400"/>
                </a:lnTo>
                <a:lnTo>
                  <a:pt x="1400" y="1400"/>
                </a:lnTo>
                <a:close/>
              </a:path>
              <a:path fill="darken" w="29242" h="21600">
                <a:moveTo>
                  <a:pt x="29242" y="0"/>
                </a:moveTo>
                <a:lnTo>
                  <a:pt x="29242" y="21600"/>
                </a:lnTo>
                <a:lnTo>
                  <a:pt x="27842" y="20200"/>
                </a:lnTo>
                <a:lnTo>
                  <a:pt x="27842" y="1400"/>
                </a:lnTo>
                <a:close/>
              </a:path>
              <a:path fill="darkenLess" w="29242" h="21600">
                <a:moveTo>
                  <a:pt x="29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42" y="20200"/>
                </a:lnTo>
                <a:close/>
              </a:path>
              <a:path fill="lighten" w="29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42" h="21600">
                <a:moveTo>
                  <a:pt x="7614" y="3794"/>
                </a:moveTo>
                <a:lnTo>
                  <a:pt x="21627" y="10800"/>
                </a:lnTo>
                <a:lnTo>
                  <a:pt x="761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8040" y="4572000"/>
            <a:ext cx="29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Tipp: billige Weichenlaterne mit L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396440" y="387360"/>
            <a:ext cx="75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B - D) - Ausfahrt vo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116680" y="3225960"/>
            <a:ext cx="8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361640" y="3095640"/>
            <a:ext cx="1704600" cy="171360"/>
            <a:chOff x="7361640" y="3095640"/>
            <a:chExt cx="1704600" cy="171360"/>
          </a:xfrm>
        </p:grpSpPr>
        <p:sp>
          <p:nvSpPr>
            <p:cNvPr id="991" name=""/>
            <p:cNvSpPr/>
            <p:nvPr/>
          </p:nvSpPr>
          <p:spPr>
            <a:xfrm flipH="1">
              <a:off x="736164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897624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7259400" y="3069720"/>
            <a:ext cx="99720" cy="87480"/>
            <a:chOff x="7259400" y="3069720"/>
            <a:chExt cx="99720" cy="87480"/>
          </a:xfrm>
        </p:grpSpPr>
        <p:sp>
          <p:nvSpPr>
            <p:cNvPr id="994" name=""/>
            <p:cNvSpPr/>
            <p:nvPr/>
          </p:nvSpPr>
          <p:spPr>
            <a:xfrm flipH="1" flipV="1">
              <a:off x="7311960" y="30697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7283520" y="3094560"/>
              <a:ext cx="6084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259400" y="3120120"/>
              <a:ext cx="9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7261200" y="3406320"/>
            <a:ext cx="100080" cy="87480"/>
            <a:chOff x="7261200" y="3406320"/>
            <a:chExt cx="100080" cy="87480"/>
          </a:xfrm>
        </p:grpSpPr>
        <p:sp>
          <p:nvSpPr>
            <p:cNvPr id="998" name=""/>
            <p:cNvSpPr/>
            <p:nvPr/>
          </p:nvSpPr>
          <p:spPr>
            <a:xfrm flipH="1" flipV="1">
              <a:off x="7314120" y="34063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7285680" y="34311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261200" y="34567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 flipV="1">
            <a:off x="551160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5400720" y="2599920"/>
            <a:ext cx="13176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7329600" y="3074760"/>
            <a:ext cx="10461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flipV="1">
            <a:off x="5379840" y="2534760"/>
            <a:ext cx="194436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8375760" y="3157560"/>
            <a:ext cx="812160" cy="341280"/>
            <a:chOff x="8375760" y="3157560"/>
            <a:chExt cx="812160" cy="341280"/>
          </a:xfrm>
        </p:grpSpPr>
        <p:sp>
          <p:nvSpPr>
            <p:cNvPr id="1006" name=""/>
            <p:cNvSpPr/>
            <p:nvPr/>
          </p:nvSpPr>
          <p:spPr>
            <a:xfrm flipV="1">
              <a:off x="8375760" y="3157560"/>
              <a:ext cx="812160" cy="14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9028800" y="3157560"/>
              <a:ext cx="152640" cy="341280"/>
              <a:chOff x="9028800" y="3157560"/>
              <a:chExt cx="152640" cy="341280"/>
            </a:xfrm>
          </p:grpSpPr>
          <p:sp>
            <p:nvSpPr>
              <p:cNvPr id="1008" name=""/>
              <p:cNvSpPr/>
              <p:nvPr/>
            </p:nvSpPr>
            <p:spPr>
              <a:xfrm>
                <a:off x="9042840" y="3209760"/>
                <a:ext cx="13716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9028800" y="3157560"/>
                <a:ext cx="0" cy="10620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9028800" y="3294000"/>
                <a:ext cx="0" cy="20484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9044280" y="3435480"/>
                <a:ext cx="137160" cy="0"/>
              </a:xfrm>
              <a:prstGeom prst="line">
                <a:avLst/>
              </a:prstGeom>
              <a:ln w="57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2" name=""/>
          <p:cNvGrpSpPr/>
          <p:nvPr/>
        </p:nvGrpSpPr>
        <p:grpSpPr>
          <a:xfrm>
            <a:off x="5205240" y="3395520"/>
            <a:ext cx="3970080" cy="103320"/>
            <a:chOff x="5205240" y="3395520"/>
            <a:chExt cx="3970080" cy="103320"/>
          </a:xfrm>
        </p:grpSpPr>
        <p:sp>
          <p:nvSpPr>
            <p:cNvPr id="1013" name=""/>
            <p:cNvSpPr/>
            <p:nvPr/>
          </p:nvSpPr>
          <p:spPr>
            <a:xfrm>
              <a:off x="5206680" y="3497400"/>
              <a:ext cx="3968640" cy="1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205240" y="3448080"/>
              <a:ext cx="13752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1480" y="3395520"/>
              <a:ext cx="0" cy="10332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 flipH="1" flipV="1">
            <a:off x="6338520" y="3178080"/>
            <a:ext cx="1364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6399000" y="314136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5198760" y="3149640"/>
            <a:ext cx="98892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75320" y="3151080"/>
            <a:ext cx="8175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473880" y="3186000"/>
            <a:ext cx="830160" cy="225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176520" y="3181320"/>
            <a:ext cx="174600" cy="14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6216120" y="3083040"/>
            <a:ext cx="189000" cy="56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361120" y="3158640"/>
            <a:ext cx="0" cy="1969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5203440" y="32227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 flipV="1">
            <a:off x="5336640" y="2790360"/>
            <a:ext cx="122760" cy="388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 flipV="1">
            <a:off x="5288040" y="284760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46552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5271840" y="256716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 flipV="1">
            <a:off x="4370040" y="2587320"/>
            <a:ext cx="9176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458960" y="22744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206680" y="249948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5159160" y="2707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 flipV="1">
            <a:off x="5195880" y="27507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936684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3976560" y="215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149040" y="22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57384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flipV="1">
            <a:off x="418680" y="2590560"/>
            <a:ext cx="91620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 flipV="1">
            <a:off x="507600" y="227772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3402360" y="3095640"/>
            <a:ext cx="1703160" cy="171360"/>
            <a:chOff x="3402360" y="3095640"/>
            <a:chExt cx="1703160" cy="171360"/>
          </a:xfrm>
        </p:grpSpPr>
        <p:sp>
          <p:nvSpPr>
            <p:cNvPr id="1041" name=""/>
            <p:cNvSpPr/>
            <p:nvPr/>
          </p:nvSpPr>
          <p:spPr>
            <a:xfrm flipH="1">
              <a:off x="340236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501552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 flipH="1" flipV="1">
            <a:off x="3351240" y="3069720"/>
            <a:ext cx="1440" cy="8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323520" y="3095640"/>
            <a:ext cx="586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3298680" y="3121200"/>
            <a:ext cx="10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 flipV="1">
            <a:off x="3354480" y="3404880"/>
            <a:ext cx="1440" cy="8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325680" y="3430440"/>
            <a:ext cx="6192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300480" y="3456000"/>
            <a:ext cx="101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55088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1439640" y="260316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387680" y="3147480"/>
            <a:ext cx="81144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3368520" y="3074760"/>
            <a:ext cx="10461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 flipV="1">
            <a:off x="1418760" y="2534760"/>
            <a:ext cx="194652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246320" y="3497400"/>
            <a:ext cx="3968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1244160" y="3448080"/>
            <a:ext cx="136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400040" y="3395520"/>
            <a:ext cx="0" cy="1033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 flipV="1">
            <a:off x="2377800" y="3177720"/>
            <a:ext cx="136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2438280" y="3139920"/>
            <a:ext cx="82800" cy="50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1239480" y="3147480"/>
            <a:ext cx="98748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514600" y="3149640"/>
            <a:ext cx="81756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3160" y="3184560"/>
            <a:ext cx="831600" cy="225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2215800" y="3181320"/>
            <a:ext cx="17460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 flipV="1">
            <a:off x="2255400" y="3083040"/>
            <a:ext cx="189000" cy="55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1400040" y="3157200"/>
            <a:ext cx="0" cy="1983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242720" y="32209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1368360" y="2792520"/>
            <a:ext cx="13032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1327320" y="2847600"/>
            <a:ext cx="915840" cy="2588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50480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083200" y="32209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067360" y="3157560"/>
            <a:ext cx="0" cy="106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067360" y="3294000"/>
            <a:ext cx="0" cy="20484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72040" y="344808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1319040" y="257004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55320" y="2502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207800" y="271080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 flipV="1">
            <a:off x="1244520" y="2754360"/>
            <a:ext cx="13032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 rot="5400000">
            <a:off x="566604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 flipV="1" rot="5400000">
            <a:off x="575604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 rot="5400000">
            <a:off x="575496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 flipV="1" rot="5400000">
            <a:off x="56239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5657400" y="4057200"/>
            <a:ext cx="13356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95476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54760" y="358776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5516280" y="2647800"/>
            <a:ext cx="4381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 rot="5400000">
            <a:off x="16974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 rot="5400000">
            <a:off x="17874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flipV="1" rot="5400000">
            <a:off x="17863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 flipV="1" rot="5400000">
            <a:off x="1653840" y="4026600"/>
            <a:ext cx="196560" cy="1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 flipV="1">
            <a:off x="1687680" y="4057200"/>
            <a:ext cx="1346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8612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86120" y="35877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1546200" y="2647800"/>
            <a:ext cx="4399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76900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1986120" y="4524480"/>
            <a:ext cx="396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822320" y="3754440"/>
            <a:ext cx="1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814400" y="390204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242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79600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87052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924200" y="464328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316640" y="3154320"/>
            <a:ext cx="957240" cy="42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318440" y="3417840"/>
            <a:ext cx="966600" cy="763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flipV="1">
            <a:off x="5706000" y="3849120"/>
            <a:ext cx="50760" cy="3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24360" y="3854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120160" y="3608280"/>
            <a:ext cx="293760" cy="182520"/>
            <a:chOff x="8120160" y="3608280"/>
            <a:chExt cx="293760" cy="182520"/>
          </a:xfrm>
        </p:grpSpPr>
        <p:grpSp>
          <p:nvGrpSpPr>
            <p:cNvPr id="1106" name=""/>
            <p:cNvGrpSpPr/>
            <p:nvPr/>
          </p:nvGrpSpPr>
          <p:grpSpPr>
            <a:xfrm>
              <a:off x="8226720" y="3608280"/>
              <a:ext cx="187200" cy="182520"/>
              <a:chOff x="8226720" y="3608280"/>
              <a:chExt cx="187200" cy="182520"/>
            </a:xfrm>
          </p:grpSpPr>
          <p:sp>
            <p:nvSpPr>
              <p:cNvPr id="1107" name=""/>
              <p:cNvSpPr/>
              <p:nvPr/>
            </p:nvSpPr>
            <p:spPr>
              <a:xfrm rot="5400000">
                <a:off x="8228880" y="3605760"/>
                <a:ext cx="182520" cy="18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8" name=""/>
              <p:cNvGrpSpPr/>
              <p:nvPr/>
            </p:nvGrpSpPr>
            <p:grpSpPr>
              <a:xfrm>
                <a:off x="8238960" y="3609360"/>
                <a:ext cx="161640" cy="180720"/>
                <a:chOff x="8238960" y="3609360"/>
                <a:chExt cx="161640" cy="180720"/>
              </a:xfrm>
            </p:grpSpPr>
            <p:sp>
              <p:nvSpPr>
                <p:cNvPr id="1109" name=""/>
                <p:cNvSpPr/>
                <p:nvPr/>
              </p:nvSpPr>
              <p:spPr>
                <a:xfrm rot="336000">
                  <a:off x="8247240" y="361152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H="1" rot="21264000">
                  <a:off x="8335440" y="361152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1" name=""/>
            <p:cNvSpPr/>
            <p:nvPr/>
          </p:nvSpPr>
          <p:spPr>
            <a:xfrm flipH="1">
              <a:off x="8120160" y="3697200"/>
              <a:ext cx="1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3349800" y="3416400"/>
            <a:ext cx="946080" cy="381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38640" y="3149640"/>
            <a:ext cx="97128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4158720" y="3654360"/>
            <a:ext cx="285840" cy="76320"/>
            <a:chOff x="4158720" y="3654360"/>
            <a:chExt cx="285840" cy="76320"/>
          </a:xfrm>
        </p:grpSpPr>
        <p:sp>
          <p:nvSpPr>
            <p:cNvPr id="1115" name=""/>
            <p:cNvSpPr/>
            <p:nvPr/>
          </p:nvSpPr>
          <p:spPr>
            <a:xfrm>
              <a:off x="4267440" y="3654360"/>
              <a:ext cx="17712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4158720" y="3696480"/>
              <a:ext cx="1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 flipH="1">
            <a:off x="1722600" y="3761640"/>
            <a:ext cx="7128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74780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6490800" y="36100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trich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6468840" y="3914640"/>
            <a:ext cx="110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989000" y="3587760"/>
            <a:ext cx="0" cy="11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59440" y="3762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1939320" y="4645080"/>
            <a:ext cx="1662840" cy="560880"/>
            <a:chOff x="1939320" y="4645080"/>
            <a:chExt cx="1662840" cy="560880"/>
          </a:xfrm>
        </p:grpSpPr>
        <p:sp>
          <p:nvSpPr>
            <p:cNvPr id="1124" name=""/>
            <p:cNvSpPr/>
            <p:nvPr/>
          </p:nvSpPr>
          <p:spPr>
            <a:xfrm>
              <a:off x="1939320" y="489888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u Rückmel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989360" y="4753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187800" y="4645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 flipH="1">
            <a:off x="37720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 rot="11757600">
            <a:off x="479160" y="226656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rot="11757600">
            <a:off x="4408920" y="227448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1574280" y="3184560"/>
            <a:ext cx="711720" cy="638280"/>
            <a:chOff x="1574280" y="3184560"/>
            <a:chExt cx="711720" cy="638280"/>
          </a:xfrm>
        </p:grpSpPr>
        <p:sp>
          <p:nvSpPr>
            <p:cNvPr id="1131" name=""/>
            <p:cNvSpPr/>
            <p:nvPr/>
          </p:nvSpPr>
          <p:spPr>
            <a:xfrm flipH="1">
              <a:off x="1574280" y="382284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1574640" y="335556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574640" y="335592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286000" y="31845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5544720" y="3186000"/>
            <a:ext cx="711720" cy="638280"/>
            <a:chOff x="5544720" y="3186000"/>
            <a:chExt cx="711720" cy="638280"/>
          </a:xfrm>
        </p:grpSpPr>
        <p:sp>
          <p:nvSpPr>
            <p:cNvPr id="1136" name=""/>
            <p:cNvSpPr/>
            <p:nvPr/>
          </p:nvSpPr>
          <p:spPr>
            <a:xfrm flipH="1">
              <a:off x="5544720" y="382428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5545080" y="335700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545080" y="335736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256440" y="31860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33520" y="2209680"/>
            <a:ext cx="942840" cy="27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969600">
            <a:off x="419400" y="20444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C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B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1396440" y="387360"/>
            <a:ext cx="75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C - D) - Ausfahrt vo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116680" y="3225960"/>
            <a:ext cx="8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7361640" y="3095640"/>
            <a:ext cx="1704600" cy="171360"/>
            <a:chOff x="7361640" y="3095640"/>
            <a:chExt cx="1704600" cy="171360"/>
          </a:xfrm>
        </p:grpSpPr>
        <p:sp>
          <p:nvSpPr>
            <p:cNvPr id="1151" name=""/>
            <p:cNvSpPr/>
            <p:nvPr/>
          </p:nvSpPr>
          <p:spPr>
            <a:xfrm flipH="1">
              <a:off x="736164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897624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7259400" y="3069720"/>
            <a:ext cx="99720" cy="87480"/>
            <a:chOff x="7259400" y="3069720"/>
            <a:chExt cx="99720" cy="87480"/>
          </a:xfrm>
        </p:grpSpPr>
        <p:sp>
          <p:nvSpPr>
            <p:cNvPr id="1154" name=""/>
            <p:cNvSpPr/>
            <p:nvPr/>
          </p:nvSpPr>
          <p:spPr>
            <a:xfrm flipH="1" flipV="1">
              <a:off x="7311960" y="30697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7283520" y="3094560"/>
              <a:ext cx="6084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7259400" y="3120120"/>
              <a:ext cx="9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7261200" y="3406320"/>
            <a:ext cx="100080" cy="87480"/>
            <a:chOff x="7261200" y="3406320"/>
            <a:chExt cx="100080" cy="87480"/>
          </a:xfrm>
        </p:grpSpPr>
        <p:sp>
          <p:nvSpPr>
            <p:cNvPr id="1158" name=""/>
            <p:cNvSpPr/>
            <p:nvPr/>
          </p:nvSpPr>
          <p:spPr>
            <a:xfrm flipH="1" flipV="1">
              <a:off x="7314120" y="34063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7285680" y="34311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7261200" y="34567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1" name=""/>
          <p:cNvSpPr/>
          <p:nvPr/>
        </p:nvSpPr>
        <p:spPr>
          <a:xfrm flipV="1">
            <a:off x="551160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 flipV="1">
            <a:off x="5400720" y="2599920"/>
            <a:ext cx="13176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 flipV="1">
            <a:off x="7329600" y="3074760"/>
            <a:ext cx="10461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5379840" y="2534760"/>
            <a:ext cx="194436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8375760" y="3157560"/>
            <a:ext cx="812160" cy="341280"/>
            <a:chOff x="8375760" y="3157560"/>
            <a:chExt cx="812160" cy="341280"/>
          </a:xfrm>
        </p:grpSpPr>
        <p:sp>
          <p:nvSpPr>
            <p:cNvPr id="1166" name=""/>
            <p:cNvSpPr/>
            <p:nvPr/>
          </p:nvSpPr>
          <p:spPr>
            <a:xfrm flipV="1">
              <a:off x="8375760" y="3157560"/>
              <a:ext cx="812160" cy="14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9028800" y="3157560"/>
              <a:ext cx="152640" cy="341280"/>
              <a:chOff x="9028800" y="3157560"/>
              <a:chExt cx="152640" cy="341280"/>
            </a:xfrm>
          </p:grpSpPr>
          <p:sp>
            <p:nvSpPr>
              <p:cNvPr id="1168" name=""/>
              <p:cNvSpPr/>
              <p:nvPr/>
            </p:nvSpPr>
            <p:spPr>
              <a:xfrm>
                <a:off x="9042840" y="3209760"/>
                <a:ext cx="13716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9028800" y="3157560"/>
                <a:ext cx="0" cy="10620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9028800" y="3294000"/>
                <a:ext cx="0" cy="20484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9044280" y="3435480"/>
                <a:ext cx="137160" cy="0"/>
              </a:xfrm>
              <a:prstGeom prst="line">
                <a:avLst/>
              </a:prstGeom>
              <a:ln w="572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2" name=""/>
          <p:cNvGrpSpPr/>
          <p:nvPr/>
        </p:nvGrpSpPr>
        <p:grpSpPr>
          <a:xfrm>
            <a:off x="5205240" y="3395520"/>
            <a:ext cx="3970080" cy="103320"/>
            <a:chOff x="5205240" y="3395520"/>
            <a:chExt cx="3970080" cy="103320"/>
          </a:xfrm>
        </p:grpSpPr>
        <p:sp>
          <p:nvSpPr>
            <p:cNvPr id="1173" name=""/>
            <p:cNvSpPr/>
            <p:nvPr/>
          </p:nvSpPr>
          <p:spPr>
            <a:xfrm>
              <a:off x="5206680" y="3497400"/>
              <a:ext cx="3968640" cy="1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205240" y="3448080"/>
              <a:ext cx="13752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61480" y="3395520"/>
              <a:ext cx="0" cy="10332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 flipH="1" flipV="1">
            <a:off x="6338520" y="3178080"/>
            <a:ext cx="13644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 flipV="1">
            <a:off x="6399000" y="3141360"/>
            <a:ext cx="82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5198760" y="3149640"/>
            <a:ext cx="98892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475320" y="3151080"/>
            <a:ext cx="81756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473880" y="3186000"/>
            <a:ext cx="830160" cy="225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176520" y="3181320"/>
            <a:ext cx="17460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6216120" y="3083040"/>
            <a:ext cx="189000" cy="56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361120" y="3158640"/>
            <a:ext cx="0" cy="1969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5203440" y="32227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 flipV="1">
            <a:off x="5336640" y="2790360"/>
            <a:ext cx="122760" cy="388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 flipV="1">
            <a:off x="5288040" y="284760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546552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323120" y="3416400"/>
            <a:ext cx="946080" cy="381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313760" y="3149640"/>
            <a:ext cx="97128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134200" y="3654360"/>
            <a:ext cx="284400" cy="76320"/>
            <a:chOff x="8134200" y="3654360"/>
            <a:chExt cx="284400" cy="76320"/>
          </a:xfrm>
        </p:grpSpPr>
        <p:sp>
          <p:nvSpPr>
            <p:cNvPr id="1191" name=""/>
            <p:cNvSpPr/>
            <p:nvPr/>
          </p:nvSpPr>
          <p:spPr>
            <a:xfrm>
              <a:off x="8242200" y="3654360"/>
              <a:ext cx="17640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8134200" y="3696480"/>
              <a:ext cx="1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 flipH="1" flipV="1">
            <a:off x="5271840" y="256716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370040" y="2587320"/>
            <a:ext cx="9176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4460400" y="2274480"/>
            <a:ext cx="91620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5206680" y="249948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5159160" y="2707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5195880" y="27507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936684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3976560" y="215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9040" y="22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7384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418680" y="2590560"/>
            <a:ext cx="91620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 flipV="1">
            <a:off x="507600" y="227772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402360" y="3095640"/>
            <a:ext cx="1703160" cy="171360"/>
            <a:chOff x="3402360" y="3095640"/>
            <a:chExt cx="1703160" cy="171360"/>
          </a:xfrm>
        </p:grpSpPr>
        <p:sp>
          <p:nvSpPr>
            <p:cNvPr id="1206" name=""/>
            <p:cNvSpPr/>
            <p:nvPr/>
          </p:nvSpPr>
          <p:spPr>
            <a:xfrm flipH="1">
              <a:off x="340236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501552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 flipH="1" flipV="1">
            <a:off x="3351240" y="3069720"/>
            <a:ext cx="1440" cy="87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3323520" y="3095640"/>
            <a:ext cx="586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298680" y="3121200"/>
            <a:ext cx="10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3354480" y="3404880"/>
            <a:ext cx="1440" cy="8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325680" y="3430440"/>
            <a:ext cx="6192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3300480" y="3456000"/>
            <a:ext cx="101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155088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 flipV="1">
            <a:off x="1439640" y="260316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387680" y="3147480"/>
            <a:ext cx="81144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3368520" y="3074760"/>
            <a:ext cx="10461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 flipV="1">
            <a:off x="1418760" y="2534760"/>
            <a:ext cx="194652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246320" y="3497400"/>
            <a:ext cx="3968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1244160" y="3448080"/>
            <a:ext cx="136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00040" y="3395520"/>
            <a:ext cx="0" cy="1033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360600" y="3152880"/>
            <a:ext cx="959040" cy="42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2377800" y="3177720"/>
            <a:ext cx="136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2438280" y="3139920"/>
            <a:ext cx="82800" cy="50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1239480" y="3147480"/>
            <a:ext cx="98748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514600" y="3149640"/>
            <a:ext cx="81756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13160" y="3184560"/>
            <a:ext cx="831600" cy="225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215800" y="3181320"/>
            <a:ext cx="174600" cy="14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 flipV="1">
            <a:off x="2255400" y="3083040"/>
            <a:ext cx="189000" cy="554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1400040" y="3157200"/>
            <a:ext cx="0" cy="1983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1242720" y="32209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1368360" y="2792520"/>
            <a:ext cx="13032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 flipV="1">
            <a:off x="1327320" y="2847600"/>
            <a:ext cx="915840" cy="2588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150480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362400" y="3416400"/>
            <a:ext cx="966600" cy="759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4163760" y="3560760"/>
            <a:ext cx="298440" cy="182520"/>
            <a:chOff x="4163760" y="3560760"/>
            <a:chExt cx="298440" cy="182520"/>
          </a:xfrm>
        </p:grpSpPr>
        <p:grpSp>
          <p:nvGrpSpPr>
            <p:cNvPr id="1237" name=""/>
            <p:cNvGrpSpPr/>
            <p:nvPr/>
          </p:nvGrpSpPr>
          <p:grpSpPr>
            <a:xfrm>
              <a:off x="4275000" y="3560760"/>
              <a:ext cx="187200" cy="182520"/>
              <a:chOff x="4275000" y="3560760"/>
              <a:chExt cx="187200" cy="182520"/>
            </a:xfrm>
          </p:grpSpPr>
          <p:sp>
            <p:nvSpPr>
              <p:cNvPr id="1238" name=""/>
              <p:cNvSpPr/>
              <p:nvPr/>
            </p:nvSpPr>
            <p:spPr>
              <a:xfrm rot="5400000">
                <a:off x="4277160" y="3558240"/>
                <a:ext cx="182520" cy="18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9" name=""/>
              <p:cNvGrpSpPr/>
              <p:nvPr/>
            </p:nvGrpSpPr>
            <p:grpSpPr>
              <a:xfrm>
                <a:off x="4287240" y="3561840"/>
                <a:ext cx="161640" cy="180720"/>
                <a:chOff x="4287240" y="3561840"/>
                <a:chExt cx="161640" cy="180720"/>
              </a:xfrm>
            </p:grpSpPr>
            <p:sp>
              <p:nvSpPr>
                <p:cNvPr id="1240" name=""/>
                <p:cNvSpPr/>
                <p:nvPr/>
              </p:nvSpPr>
              <p:spPr>
                <a:xfrm rot="336000">
                  <a:off x="4295520" y="356400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 rot="21264000">
                  <a:off x="4383720" y="356400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2" name=""/>
            <p:cNvSpPr/>
            <p:nvPr/>
          </p:nvSpPr>
          <p:spPr>
            <a:xfrm flipH="1">
              <a:off x="4163760" y="3652920"/>
              <a:ext cx="109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5083200" y="3220920"/>
            <a:ext cx="1364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67360" y="3157560"/>
            <a:ext cx="0" cy="106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67360" y="3294000"/>
            <a:ext cx="0" cy="20484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072040" y="344808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1319040" y="257004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255320" y="2502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1207800" y="271080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 flipV="1">
            <a:off x="1244520" y="2754360"/>
            <a:ext cx="13032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 flipV="1" rot="5400000">
            <a:off x="566604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 flipV="1" rot="5400000">
            <a:off x="575604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 flipV="1" rot="5400000">
            <a:off x="575496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5697000" y="3761640"/>
            <a:ext cx="7164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 flipV="1" rot="5400000">
            <a:off x="56239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 flipV="1">
            <a:off x="5657400" y="4057200"/>
            <a:ext cx="13356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95476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954760" y="358776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2292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5516280" y="2647800"/>
            <a:ext cx="4381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 flipV="1" rot="5400000">
            <a:off x="16974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 rot="5400000">
            <a:off x="17874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 rot="5400000">
            <a:off x="17863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1725840" y="3843360"/>
            <a:ext cx="70200" cy="4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 rot="5400000">
            <a:off x="1653840" y="4026600"/>
            <a:ext cx="196560" cy="1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 flipV="1">
            <a:off x="1687680" y="4057200"/>
            <a:ext cx="1346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1493640" y="3827520"/>
            <a:ext cx="22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92200" y="3225960"/>
            <a:ext cx="0" cy="5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8612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752480" y="38480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1358640" y="322596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1546200" y="2647800"/>
            <a:ext cx="4399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76900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1986120" y="4524480"/>
            <a:ext cx="396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822320" y="3754440"/>
            <a:ext cx="1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814400" y="390204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9242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79600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87052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924200" y="464328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6490800" y="36100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trich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468840" y="3914640"/>
            <a:ext cx="110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989000" y="3587760"/>
            <a:ext cx="0" cy="11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939320" y="4645080"/>
            <a:ext cx="1662840" cy="560880"/>
            <a:chOff x="1939320" y="4645080"/>
            <a:chExt cx="1662840" cy="560880"/>
          </a:xfrm>
        </p:grpSpPr>
        <p:sp>
          <p:nvSpPr>
            <p:cNvPr id="1285" name=""/>
            <p:cNvSpPr/>
            <p:nvPr/>
          </p:nvSpPr>
          <p:spPr>
            <a:xfrm>
              <a:off x="1939320" y="489888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u Rückmel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989360" y="4753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187800" y="4645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 flipH="1">
            <a:off x="37720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959440" y="3762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 rot="11757600">
            <a:off x="479160" y="226656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 rot="11757600">
            <a:off x="4408920" y="227448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574280" y="3184560"/>
            <a:ext cx="711720" cy="638280"/>
            <a:chOff x="1574280" y="3184560"/>
            <a:chExt cx="711720" cy="638280"/>
          </a:xfrm>
        </p:grpSpPr>
        <p:sp>
          <p:nvSpPr>
            <p:cNvPr id="1293" name=""/>
            <p:cNvSpPr/>
            <p:nvPr/>
          </p:nvSpPr>
          <p:spPr>
            <a:xfrm flipH="1">
              <a:off x="1574280" y="382284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1574640" y="335556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574640" y="335592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2286000" y="31845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544720" y="3186000"/>
            <a:ext cx="711720" cy="638280"/>
            <a:chOff x="5544720" y="3186000"/>
            <a:chExt cx="711720" cy="638280"/>
          </a:xfrm>
        </p:grpSpPr>
        <p:sp>
          <p:nvSpPr>
            <p:cNvPr id="1298" name=""/>
            <p:cNvSpPr/>
            <p:nvPr/>
          </p:nvSpPr>
          <p:spPr>
            <a:xfrm flipH="1">
              <a:off x="5544720" y="382428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5545080" y="335700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545080" y="335736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6256440" y="31860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533520" y="2209680"/>
            <a:ext cx="942840" cy="27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rot="969600">
            <a:off x="419400" y="20444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C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B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"/>
          <p:cNvGrpSpPr/>
          <p:nvPr/>
        </p:nvGrpSpPr>
        <p:grpSpPr>
          <a:xfrm>
            <a:off x="1101600" y="2176560"/>
            <a:ext cx="3401280" cy="340920"/>
            <a:chOff x="1101600" y="2176560"/>
            <a:chExt cx="3401280" cy="340920"/>
          </a:xfrm>
        </p:grpSpPr>
        <p:sp>
          <p:nvSpPr>
            <p:cNvPr id="1311" name=""/>
            <p:cNvSpPr/>
            <p:nvPr/>
          </p:nvSpPr>
          <p:spPr>
            <a:xfrm>
              <a:off x="4280040" y="21765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101600" y="25174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4506840" y="2125440"/>
            <a:ext cx="199800" cy="174600"/>
            <a:chOff x="4506840" y="2125440"/>
            <a:chExt cx="199800" cy="174600"/>
          </a:xfrm>
        </p:grpSpPr>
        <p:sp>
          <p:nvSpPr>
            <p:cNvPr id="1314" name=""/>
            <p:cNvSpPr/>
            <p:nvPr/>
          </p:nvSpPr>
          <p:spPr>
            <a:xfrm flipV="1">
              <a:off x="4600080" y="21254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36000" y="21747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506840" y="22255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4503600" y="2795400"/>
            <a:ext cx="199800" cy="174600"/>
            <a:chOff x="4503600" y="2795400"/>
            <a:chExt cx="199800" cy="174600"/>
          </a:xfrm>
        </p:grpSpPr>
        <p:sp>
          <p:nvSpPr>
            <p:cNvPr id="1318" name=""/>
            <p:cNvSpPr/>
            <p:nvPr/>
          </p:nvSpPr>
          <p:spPr>
            <a:xfrm flipV="1">
              <a:off x="4596840" y="27954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32760" y="28447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503600" y="28954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856800" y="1055520"/>
            <a:ext cx="7604280" cy="1455840"/>
            <a:chOff x="856800" y="1055520"/>
            <a:chExt cx="7604280" cy="1455840"/>
          </a:xfrm>
        </p:grpSpPr>
        <p:sp>
          <p:nvSpPr>
            <p:cNvPr id="1322" name=""/>
            <p:cNvSpPr/>
            <p:nvPr/>
          </p:nvSpPr>
          <p:spPr>
            <a:xfrm flipH="1">
              <a:off x="874080" y="240336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8085960" y="115344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8157960" y="118548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 flipV="1">
              <a:off x="856800" y="229824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2476800" y="213516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4576320" y="105552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175040" y="229860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870120" y="2571840"/>
            <a:ext cx="7943400" cy="408960"/>
            <a:chOff x="870120" y="2571840"/>
            <a:chExt cx="7943400" cy="408960"/>
          </a:xfrm>
        </p:grpSpPr>
        <p:sp>
          <p:nvSpPr>
            <p:cNvPr id="1330" name=""/>
            <p:cNvSpPr/>
            <p:nvPr/>
          </p:nvSpPr>
          <p:spPr>
            <a:xfrm flipH="1">
              <a:off x="878400" y="2976480"/>
              <a:ext cx="7932960" cy="28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76120" y="2571840"/>
              <a:ext cx="0" cy="4078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870120" y="285408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538480" y="28778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500680" y="2774880"/>
              <a:ext cx="0" cy="20592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 flipH="1">
            <a:off x="2673000" y="2290680"/>
            <a:ext cx="1909800" cy="856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4617720" y="1562400"/>
            <a:ext cx="4205160" cy="1242720"/>
            <a:chOff x="4617720" y="1562400"/>
            <a:chExt cx="4205160" cy="1242720"/>
          </a:xfrm>
        </p:grpSpPr>
        <p:sp>
          <p:nvSpPr>
            <p:cNvPr id="1337" name=""/>
            <p:cNvSpPr/>
            <p:nvPr/>
          </p:nvSpPr>
          <p:spPr>
            <a:xfrm flipV="1">
              <a:off x="6274440" y="2339640"/>
              <a:ext cx="273240" cy="1116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6262200" y="2265120"/>
              <a:ext cx="166680" cy="972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6848640" y="2280960"/>
              <a:ext cx="1974240" cy="3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4639680" y="2284560"/>
              <a:ext cx="1634040" cy="3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4617720" y="2354400"/>
              <a:ext cx="1659240" cy="4507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522120" y="2346480"/>
              <a:ext cx="350280" cy="324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6415200" y="2151360"/>
              <a:ext cx="376560" cy="110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8501400" y="2300400"/>
              <a:ext cx="0" cy="39528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542440" y="2427480"/>
              <a:ext cx="27504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8302680" y="1616040"/>
              <a:ext cx="261720" cy="828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6815880" y="1679760"/>
              <a:ext cx="1831320" cy="519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8228160" y="1562400"/>
              <a:ext cx="64800" cy="20448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 flipH="1">
            <a:off x="2652480" y="2816280"/>
            <a:ext cx="1928520" cy="1522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812080" y="2435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399520" y="11970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9369360" y="1206360"/>
            <a:ext cx="0" cy="214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54400" y="360360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Times New Roman"/>
              </a:rPr>
              <a:t>Weichenantri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0" y="53352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erkabelung mit VSDM Mod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73360" y="3265560"/>
            <a:ext cx="623880" cy="25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825640" y="3265560"/>
            <a:ext cx="1461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978280" y="3267000"/>
            <a:ext cx="145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25640" y="3524400"/>
            <a:ext cx="0" cy="1149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124080" y="3524400"/>
            <a:ext cx="0" cy="1145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476440" y="4533840"/>
            <a:ext cx="338472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746440" y="46735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04956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35448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65760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96252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26564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6876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87368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178600" y="466884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483160" y="4668840"/>
            <a:ext cx="1526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690280" y="4724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99880" y="4724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74644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5280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59160" y="4938840"/>
            <a:ext cx="1350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665520" y="4938840"/>
            <a:ext cx="1350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97044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27680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8316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890960" y="4938840"/>
            <a:ext cx="1368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665520" y="563868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723560" y="4197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WB4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rot="16200000">
            <a:off x="2754000" y="4170600"/>
            <a:ext cx="48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ra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rot="16200000">
            <a:off x="2494440" y="4218120"/>
            <a:ext cx="39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2146320" y="3429000"/>
            <a:ext cx="5270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394000" y="3181320"/>
            <a:ext cx="1197000" cy="476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7182000" y="3524400"/>
            <a:ext cx="2063160" cy="1009440"/>
            <a:chOff x="7182000" y="3524400"/>
            <a:chExt cx="2063160" cy="1009440"/>
          </a:xfrm>
        </p:grpSpPr>
        <p:sp>
          <p:nvSpPr>
            <p:cNvPr id="1388" name=""/>
            <p:cNvSpPr/>
            <p:nvPr/>
          </p:nvSpPr>
          <p:spPr>
            <a:xfrm>
              <a:off x="7182000" y="3524400"/>
              <a:ext cx="2063160" cy="100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646400" y="3875040"/>
              <a:ext cx="113436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0" name=""/>
            <p:cNvGrpSpPr/>
            <p:nvPr/>
          </p:nvGrpSpPr>
          <p:grpSpPr>
            <a:xfrm>
              <a:off x="7831800" y="3583080"/>
              <a:ext cx="761040" cy="81000"/>
              <a:chOff x="7831800" y="3583080"/>
              <a:chExt cx="761040" cy="81000"/>
            </a:xfrm>
          </p:grpSpPr>
          <p:sp>
            <p:nvSpPr>
              <p:cNvPr id="1391" name=""/>
              <p:cNvSpPr/>
              <p:nvPr/>
            </p:nvSpPr>
            <p:spPr>
              <a:xfrm>
                <a:off x="7831800" y="3589200"/>
                <a:ext cx="152640" cy="7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135640" y="3583080"/>
                <a:ext cx="15300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440200" y="3583080"/>
                <a:ext cx="15264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7831800" y="4402080"/>
              <a:ext cx="761040" cy="81000"/>
              <a:chOff x="7831800" y="4402080"/>
              <a:chExt cx="761040" cy="81000"/>
            </a:xfrm>
          </p:grpSpPr>
          <p:sp>
            <p:nvSpPr>
              <p:cNvPr id="1395" name=""/>
              <p:cNvSpPr/>
              <p:nvPr/>
            </p:nvSpPr>
            <p:spPr>
              <a:xfrm>
                <a:off x="7831800" y="4408200"/>
                <a:ext cx="152640" cy="7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135640" y="4402080"/>
                <a:ext cx="15300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440200" y="4402080"/>
                <a:ext cx="15264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8" name=""/>
          <p:cNvSpPr/>
          <p:nvPr/>
        </p:nvSpPr>
        <p:spPr>
          <a:xfrm>
            <a:off x="7237440" y="3833640"/>
            <a:ext cx="339840" cy="3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847000" y="3838680"/>
            <a:ext cx="339840" cy="3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5400000">
            <a:off x="7196400" y="389160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5400000">
            <a:off x="8831160" y="3889080"/>
            <a:ext cx="3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5400000">
            <a:off x="7785720" y="362952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5400000">
            <a:off x="8078400" y="363132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5400000">
            <a:off x="8383320" y="3631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rot="5400000">
            <a:off x="7784280" y="419796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rot="5400000">
            <a:off x="8076240" y="419940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5400000">
            <a:off x="8381880" y="4199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667720" y="3911760"/>
            <a:ext cx="824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2825280" y="3940200"/>
            <a:ext cx="4418280" cy="3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137040" y="4138560"/>
            <a:ext cx="4106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3697200" y="5649840"/>
            <a:ext cx="942840" cy="108000"/>
            <a:chOff x="3697200" y="5649840"/>
            <a:chExt cx="942840" cy="108000"/>
          </a:xfrm>
        </p:grpSpPr>
        <p:sp>
          <p:nvSpPr>
            <p:cNvPr id="1412" name=""/>
            <p:cNvSpPr/>
            <p:nvPr/>
          </p:nvSpPr>
          <p:spPr>
            <a:xfrm>
              <a:off x="369720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0528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11336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2180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3168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3697200" y="5802480"/>
            <a:ext cx="1080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05280" y="5802480"/>
            <a:ext cx="10944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3360" y="5802480"/>
            <a:ext cx="10944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321080" y="5802480"/>
            <a:ext cx="1098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32400" y="5802480"/>
            <a:ext cx="1080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013360" y="58356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222880" y="58356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875840" y="564984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+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122800" y="56498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5060880" y="5886360"/>
            <a:ext cx="6480" cy="490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067360" y="6377040"/>
            <a:ext cx="1619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9080640" y="4138560"/>
            <a:ext cx="28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369360" y="4138560"/>
            <a:ext cx="0" cy="16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6686640" y="5757840"/>
            <a:ext cx="268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686640" y="5757840"/>
            <a:ext cx="0" cy="619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988480" y="2435400"/>
            <a:ext cx="0" cy="83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 flipV="1">
            <a:off x="8218080" y="3261960"/>
            <a:ext cx="770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8218440" y="326232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7907400" y="334620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6546600" y="334656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46960" y="297648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546960" y="3346560"/>
            <a:ext cx="0" cy="159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544800" y="47498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8510400" y="3362400"/>
            <a:ext cx="85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850860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732080" y="54594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9369360" y="76212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8647200" y="7621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85080" y="42552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483040" y="45338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"/>
          <p:cNvGrpSpPr/>
          <p:nvPr/>
        </p:nvGrpSpPr>
        <p:grpSpPr>
          <a:xfrm>
            <a:off x="1101600" y="2176560"/>
            <a:ext cx="3401280" cy="340920"/>
            <a:chOff x="1101600" y="2176560"/>
            <a:chExt cx="3401280" cy="340920"/>
          </a:xfrm>
        </p:grpSpPr>
        <p:sp>
          <p:nvSpPr>
            <p:cNvPr id="1448" name=""/>
            <p:cNvSpPr/>
            <p:nvPr/>
          </p:nvSpPr>
          <p:spPr>
            <a:xfrm>
              <a:off x="4280040" y="21765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101600" y="25174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4506840" y="2125440"/>
            <a:ext cx="199800" cy="174600"/>
            <a:chOff x="4506840" y="2125440"/>
            <a:chExt cx="199800" cy="174600"/>
          </a:xfrm>
        </p:grpSpPr>
        <p:sp>
          <p:nvSpPr>
            <p:cNvPr id="1451" name=""/>
            <p:cNvSpPr/>
            <p:nvPr/>
          </p:nvSpPr>
          <p:spPr>
            <a:xfrm flipV="1">
              <a:off x="4600080" y="21254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36000" y="21747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506840" y="22255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4503600" y="2795400"/>
            <a:ext cx="199800" cy="174600"/>
            <a:chOff x="4503600" y="2795400"/>
            <a:chExt cx="199800" cy="174600"/>
          </a:xfrm>
        </p:grpSpPr>
        <p:sp>
          <p:nvSpPr>
            <p:cNvPr id="1455" name=""/>
            <p:cNvSpPr/>
            <p:nvPr/>
          </p:nvSpPr>
          <p:spPr>
            <a:xfrm flipV="1">
              <a:off x="4596840" y="27954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32760" y="28447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03600" y="28954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856800" y="1055520"/>
            <a:ext cx="7604280" cy="1455840"/>
            <a:chOff x="856800" y="1055520"/>
            <a:chExt cx="7604280" cy="1455840"/>
          </a:xfrm>
        </p:grpSpPr>
        <p:sp>
          <p:nvSpPr>
            <p:cNvPr id="1459" name=""/>
            <p:cNvSpPr/>
            <p:nvPr/>
          </p:nvSpPr>
          <p:spPr>
            <a:xfrm flipH="1">
              <a:off x="874080" y="240336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flipV="1">
              <a:off x="8085960" y="115344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8157960" y="118548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856800" y="229824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2476800" y="213516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4576320" y="105552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175040" y="229860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870120" y="2571840"/>
            <a:ext cx="7943400" cy="408960"/>
            <a:chOff x="870120" y="2571840"/>
            <a:chExt cx="7943400" cy="408960"/>
          </a:xfrm>
        </p:grpSpPr>
        <p:sp>
          <p:nvSpPr>
            <p:cNvPr id="1467" name=""/>
            <p:cNvSpPr/>
            <p:nvPr/>
          </p:nvSpPr>
          <p:spPr>
            <a:xfrm flipH="1">
              <a:off x="878400" y="2976480"/>
              <a:ext cx="7932960" cy="28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76120" y="2571840"/>
              <a:ext cx="0" cy="4078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870120" y="285408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538480" y="28778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500680" y="2774880"/>
              <a:ext cx="0" cy="20592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 flipH="1">
            <a:off x="2673000" y="2290680"/>
            <a:ext cx="1909800" cy="856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4617720" y="1562400"/>
            <a:ext cx="4205160" cy="1242720"/>
            <a:chOff x="4617720" y="1562400"/>
            <a:chExt cx="4205160" cy="1242720"/>
          </a:xfrm>
        </p:grpSpPr>
        <p:sp>
          <p:nvSpPr>
            <p:cNvPr id="1474" name=""/>
            <p:cNvSpPr/>
            <p:nvPr/>
          </p:nvSpPr>
          <p:spPr>
            <a:xfrm flipV="1">
              <a:off x="6274440" y="2339640"/>
              <a:ext cx="273240" cy="1116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6262200" y="2265120"/>
              <a:ext cx="166680" cy="972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6848640" y="2280960"/>
              <a:ext cx="1974240" cy="3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4639680" y="2284560"/>
              <a:ext cx="1634040" cy="3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4617720" y="2354400"/>
              <a:ext cx="1659240" cy="4507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22120" y="2346480"/>
              <a:ext cx="350280" cy="324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6415200" y="2151360"/>
              <a:ext cx="376560" cy="110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8501400" y="2300400"/>
              <a:ext cx="0" cy="39528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542440" y="2427480"/>
              <a:ext cx="27504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8302680" y="1616040"/>
              <a:ext cx="261720" cy="828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6815880" y="1679760"/>
              <a:ext cx="1831320" cy="519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8228160" y="1562400"/>
              <a:ext cx="64800" cy="20448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 flipH="1">
            <a:off x="2652480" y="2816280"/>
            <a:ext cx="1928520" cy="1522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8812080" y="2435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8399520" y="11970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9369360" y="1206360"/>
            <a:ext cx="0" cy="214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254400" y="360360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Times New Roman"/>
              </a:rPr>
              <a:t>Weichenantri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0" y="53352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ipp: billige Weichenlaterne mit L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z.B. für Weichen im Schattenbahnh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673360" y="3265560"/>
            <a:ext cx="623880" cy="25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825640" y="3265560"/>
            <a:ext cx="1461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978280" y="3267000"/>
            <a:ext cx="145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825640" y="3524400"/>
            <a:ext cx="0" cy="1149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24080" y="3524400"/>
            <a:ext cx="0" cy="1145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476440" y="4533840"/>
            <a:ext cx="338472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746440" y="46735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04956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35448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65760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96252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265640" y="467532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56876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873680" y="4675320"/>
            <a:ext cx="1540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178600" y="4668840"/>
            <a:ext cx="15228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483160" y="4668840"/>
            <a:ext cx="15264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90280" y="4724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999880" y="47242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74644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05280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359160" y="4938840"/>
            <a:ext cx="1350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665520" y="4938840"/>
            <a:ext cx="1350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97044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27680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583160" y="4938840"/>
            <a:ext cx="13644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890960" y="4938840"/>
            <a:ext cx="136800" cy="47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665520" y="563868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723560" y="4197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WB4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16200000">
            <a:off x="2754000" y="4170600"/>
            <a:ext cx="48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ra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16200000">
            <a:off x="2494440" y="4218120"/>
            <a:ext cx="39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2146320" y="3429000"/>
            <a:ext cx="5270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394000" y="3181320"/>
            <a:ext cx="1197000" cy="476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7182000" y="3524400"/>
            <a:ext cx="2063160" cy="1009440"/>
            <a:chOff x="7182000" y="3524400"/>
            <a:chExt cx="2063160" cy="1009440"/>
          </a:xfrm>
        </p:grpSpPr>
        <p:sp>
          <p:nvSpPr>
            <p:cNvPr id="1525" name=""/>
            <p:cNvSpPr/>
            <p:nvPr/>
          </p:nvSpPr>
          <p:spPr>
            <a:xfrm>
              <a:off x="7182000" y="3524400"/>
              <a:ext cx="2063160" cy="100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646400" y="3875040"/>
              <a:ext cx="113436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"/>
            <p:cNvGrpSpPr/>
            <p:nvPr/>
          </p:nvGrpSpPr>
          <p:grpSpPr>
            <a:xfrm>
              <a:off x="7831800" y="3583080"/>
              <a:ext cx="761040" cy="81000"/>
              <a:chOff x="7831800" y="3583080"/>
              <a:chExt cx="761040" cy="81000"/>
            </a:xfrm>
          </p:grpSpPr>
          <p:sp>
            <p:nvSpPr>
              <p:cNvPr id="1528" name=""/>
              <p:cNvSpPr/>
              <p:nvPr/>
            </p:nvSpPr>
            <p:spPr>
              <a:xfrm>
                <a:off x="7831800" y="3589200"/>
                <a:ext cx="152640" cy="7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135640" y="3583080"/>
                <a:ext cx="15300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440200" y="3583080"/>
                <a:ext cx="15264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7831800" y="4402080"/>
              <a:ext cx="761040" cy="81000"/>
              <a:chOff x="7831800" y="4402080"/>
              <a:chExt cx="761040" cy="81000"/>
            </a:xfrm>
          </p:grpSpPr>
          <p:sp>
            <p:nvSpPr>
              <p:cNvPr id="1532" name=""/>
              <p:cNvSpPr/>
              <p:nvPr/>
            </p:nvSpPr>
            <p:spPr>
              <a:xfrm>
                <a:off x="7831800" y="4408200"/>
                <a:ext cx="152640" cy="7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135640" y="4402080"/>
                <a:ext cx="15300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40200" y="4402080"/>
                <a:ext cx="152640" cy="74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5" name=""/>
          <p:cNvSpPr/>
          <p:nvPr/>
        </p:nvSpPr>
        <p:spPr>
          <a:xfrm>
            <a:off x="7237440" y="3833640"/>
            <a:ext cx="339840" cy="3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8847000" y="3838680"/>
            <a:ext cx="339840" cy="3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rot="5400000">
            <a:off x="7196400" y="389160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rot="5400000">
            <a:off x="8831160" y="3889080"/>
            <a:ext cx="3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rot="5400000">
            <a:off x="7785720" y="362952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rot="5400000">
            <a:off x="8078400" y="363132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rot="5400000">
            <a:off x="8383320" y="36313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rot="5400000">
            <a:off x="7784280" y="419796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rot="5400000">
            <a:off x="8076240" y="4199400"/>
            <a:ext cx="30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rot="5400000">
            <a:off x="8381880" y="41997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667720" y="3911760"/>
            <a:ext cx="824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2825280" y="3940200"/>
            <a:ext cx="4418280" cy="3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137040" y="4138560"/>
            <a:ext cx="4106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3697200" y="5649840"/>
            <a:ext cx="942840" cy="108000"/>
            <a:chOff x="3697200" y="5649840"/>
            <a:chExt cx="942840" cy="108000"/>
          </a:xfrm>
        </p:grpSpPr>
        <p:sp>
          <p:nvSpPr>
            <p:cNvPr id="1549" name=""/>
            <p:cNvSpPr/>
            <p:nvPr/>
          </p:nvSpPr>
          <p:spPr>
            <a:xfrm>
              <a:off x="369720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90528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11336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32180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531680" y="5649840"/>
              <a:ext cx="1083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3697200" y="5802480"/>
            <a:ext cx="1080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905280" y="5802480"/>
            <a:ext cx="10944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113360" y="5802480"/>
            <a:ext cx="10944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321080" y="5802480"/>
            <a:ext cx="1098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532400" y="5802480"/>
            <a:ext cx="108000" cy="10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013360" y="58356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222880" y="583560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5840" y="564984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+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122800" y="56498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5060880" y="5886360"/>
            <a:ext cx="6480" cy="490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067360" y="6377040"/>
            <a:ext cx="1619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9080640" y="4138560"/>
            <a:ext cx="28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369360" y="4138560"/>
            <a:ext cx="0" cy="16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6686640" y="5757840"/>
            <a:ext cx="268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686640" y="5757840"/>
            <a:ext cx="0" cy="619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8988480" y="2435400"/>
            <a:ext cx="0" cy="83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 flipV="1">
            <a:off x="8218080" y="3261960"/>
            <a:ext cx="770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8218440" y="326232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7907400" y="334620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6546600" y="3346560"/>
            <a:ext cx="136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546960" y="297648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6541920" y="3346560"/>
            <a:ext cx="5040" cy="22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870160" y="5334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8510400" y="3362400"/>
            <a:ext cx="85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850860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87680" y="54594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1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9369360" y="76212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8647200" y="7621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885080" y="42552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8483040" y="45338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151840" y="4870440"/>
            <a:ext cx="14436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218440" y="44751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218440" y="5410080"/>
            <a:ext cx="0" cy="34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8151840" y="5105520"/>
            <a:ext cx="14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147160" y="5033880"/>
            <a:ext cx="14904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8150400" y="4962600"/>
            <a:ext cx="149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8523360" y="4476600"/>
            <a:ext cx="1440" cy="9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8413920" y="4938840"/>
            <a:ext cx="218880" cy="1238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413920" y="5062680"/>
            <a:ext cx="21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8704440" y="4986000"/>
            <a:ext cx="156960" cy="1191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8704440" y="4870080"/>
            <a:ext cx="156960" cy="1191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908840" y="4476600"/>
            <a:ext cx="1800" cy="9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800120" y="4938840"/>
            <a:ext cx="219240" cy="1238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7800480" y="506268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 flipV="1">
            <a:off x="7571880" y="4986000"/>
            <a:ext cx="157320" cy="11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 flipV="1">
            <a:off x="7571880" y="4870080"/>
            <a:ext cx="157320" cy="11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6575400" y="5459400"/>
            <a:ext cx="1959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8205840" y="51004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   68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06840" y="3576240"/>
            <a:ext cx="199800" cy="174600"/>
            <a:chOff x="4506840" y="3576240"/>
            <a:chExt cx="199800" cy="174600"/>
          </a:xfrm>
        </p:grpSpPr>
        <p:sp>
          <p:nvSpPr>
            <p:cNvPr id="60" name=""/>
            <p:cNvSpPr/>
            <p:nvPr/>
          </p:nvSpPr>
          <p:spPr>
            <a:xfrm flipV="1">
              <a:off x="4600080" y="35762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36000" y="36255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06840" y="36763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158280" y="387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echanischer Umb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7040" y="3367080"/>
            <a:ext cx="560160" cy="576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87960" y="4067280"/>
            <a:ext cx="560160" cy="576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01600" y="3627360"/>
            <a:ext cx="3401280" cy="340920"/>
            <a:chOff x="1101600" y="3627360"/>
            <a:chExt cx="3401280" cy="340920"/>
          </a:xfrm>
        </p:grpSpPr>
        <p:sp>
          <p:nvSpPr>
            <p:cNvPr id="67" name=""/>
            <p:cNvSpPr/>
            <p:nvPr/>
          </p:nvSpPr>
          <p:spPr>
            <a:xfrm>
              <a:off x="4280040" y="36273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01600" y="39682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301480" y="213660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imes New Roman"/>
              </a:rPr>
              <a:t>Trennen mit der Schei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654360"/>
            <a:ext cx="561960" cy="5763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26280" y="3994200"/>
            <a:ext cx="559080" cy="5745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78680" y="2854440"/>
            <a:ext cx="560520" cy="576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05760" y="481824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imes New Roman"/>
              </a:rPr>
              <a:t>Trennen (mit der Zan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73720" y="3790440"/>
            <a:ext cx="273240" cy="1116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261120" y="3715920"/>
            <a:ext cx="168120" cy="972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48640" y="3730320"/>
            <a:ext cx="290484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40040" y="3735360"/>
            <a:ext cx="1633320" cy="3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618080" y="3805200"/>
            <a:ext cx="1658880" cy="4507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73000" y="3741840"/>
            <a:ext cx="1909800" cy="856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76240" y="4260960"/>
            <a:ext cx="1896840" cy="12384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21400" y="3797280"/>
            <a:ext cx="351000" cy="324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415200" y="3602160"/>
            <a:ext cx="376200" cy="1108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79480" y="4427640"/>
            <a:ext cx="8874000" cy="32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299960" y="3982680"/>
            <a:ext cx="2346120" cy="9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899320" y="4190760"/>
            <a:ext cx="2438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70120" y="3762360"/>
            <a:ext cx="421920" cy="668520"/>
            <a:chOff x="870120" y="3762360"/>
            <a:chExt cx="421920" cy="668520"/>
          </a:xfrm>
        </p:grpSpPr>
        <p:sp>
          <p:nvSpPr>
            <p:cNvPr id="87" name=""/>
            <p:cNvSpPr/>
            <p:nvPr/>
          </p:nvSpPr>
          <p:spPr>
            <a:xfrm>
              <a:off x="1181520" y="3762360"/>
              <a:ext cx="0" cy="66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71360" y="3968640"/>
              <a:ext cx="220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73360" y="3854520"/>
              <a:ext cx="275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70120" y="4305240"/>
              <a:ext cx="275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8118000" y="3753000"/>
            <a:ext cx="420480" cy="668160"/>
            <a:chOff x="8118000" y="3753000"/>
            <a:chExt cx="420480" cy="668160"/>
          </a:xfrm>
        </p:grpSpPr>
        <p:sp>
          <p:nvSpPr>
            <p:cNvPr id="92" name=""/>
            <p:cNvSpPr/>
            <p:nvPr/>
          </p:nvSpPr>
          <p:spPr>
            <a:xfrm flipV="1">
              <a:off x="8428680" y="3753000"/>
              <a:ext cx="0" cy="668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18880" y="4215240"/>
              <a:ext cx="219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8121240" y="4329360"/>
              <a:ext cx="27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118000" y="3878640"/>
              <a:ext cx="27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023320" y="2547000"/>
            <a:ext cx="502560" cy="641880"/>
            <a:chOff x="8023320" y="2547000"/>
            <a:chExt cx="502560" cy="641880"/>
          </a:xfrm>
        </p:grpSpPr>
        <p:sp>
          <p:nvSpPr>
            <p:cNvPr id="97" name=""/>
            <p:cNvSpPr/>
            <p:nvPr/>
          </p:nvSpPr>
          <p:spPr>
            <a:xfrm flipH="1" flipV="1">
              <a:off x="8283600" y="2547000"/>
              <a:ext cx="197640" cy="638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314920" y="2955960"/>
              <a:ext cx="210960" cy="65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159760" y="3107160"/>
              <a:ext cx="263160" cy="8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23320" y="2677680"/>
              <a:ext cx="263160" cy="8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 flipV="1">
            <a:off x="857160" y="3749400"/>
            <a:ext cx="1619280" cy="46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476440" y="3586320"/>
            <a:ext cx="2095560" cy="163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03600" y="4246200"/>
            <a:ext cx="199800" cy="174600"/>
            <a:chOff x="4503600" y="4246200"/>
            <a:chExt cx="199800" cy="174600"/>
          </a:xfrm>
        </p:grpSpPr>
        <p:sp>
          <p:nvSpPr>
            <p:cNvPr id="104" name=""/>
            <p:cNvSpPr/>
            <p:nvPr/>
          </p:nvSpPr>
          <p:spPr>
            <a:xfrm flipV="1">
              <a:off x="4596840" y="42462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32760" y="42955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3600" y="43462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4576680" y="2136600"/>
            <a:ext cx="5024520" cy="14464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815160" y="2854080"/>
            <a:ext cx="2938320" cy="795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899320" y="2989440"/>
            <a:ext cx="2484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35440" y="2486160"/>
            <a:ext cx="1527120" cy="17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62440" y="2449440"/>
            <a:ext cx="1500120" cy="12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46960" y="3392640"/>
            <a:ext cx="560160" cy="576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62440" y="2449440"/>
            <a:ext cx="382896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1400" y="3576600"/>
            <a:ext cx="81000" cy="2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292960" y="2087280"/>
            <a:ext cx="992160" cy="2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691600">
            <a:off x="8085240" y="2028600"/>
            <a:ext cx="6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9842400">
            <a:off x="9307080" y="214452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497880" y="363780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97800" y="357660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574200">
            <a:off x="8685000" y="332712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76360" y="4430520"/>
            <a:ext cx="200160" cy="90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8160" y="51544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3480" y="2325600"/>
            <a:ext cx="28584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04600" y="2087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ückmeld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5520" y="145908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rzstück Umschal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1763640"/>
            <a:ext cx="76320" cy="191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101600" y="3627360"/>
            <a:ext cx="3401280" cy="340920"/>
            <a:chOff x="1101600" y="3627360"/>
            <a:chExt cx="3401280" cy="340920"/>
          </a:xfrm>
        </p:grpSpPr>
        <p:sp>
          <p:nvSpPr>
            <p:cNvPr id="128" name=""/>
            <p:cNvSpPr/>
            <p:nvPr/>
          </p:nvSpPr>
          <p:spPr>
            <a:xfrm>
              <a:off x="4280040" y="36273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01600" y="39682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06840" y="3576240"/>
            <a:ext cx="199800" cy="174600"/>
            <a:chOff x="4506840" y="3576240"/>
            <a:chExt cx="199800" cy="174600"/>
          </a:xfrm>
        </p:grpSpPr>
        <p:sp>
          <p:nvSpPr>
            <p:cNvPr id="131" name=""/>
            <p:cNvSpPr/>
            <p:nvPr/>
          </p:nvSpPr>
          <p:spPr>
            <a:xfrm flipV="1">
              <a:off x="4600080" y="35762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6000" y="36255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6840" y="36763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03600" y="4246200"/>
            <a:ext cx="199800" cy="174600"/>
            <a:chOff x="4503600" y="4246200"/>
            <a:chExt cx="199800" cy="174600"/>
          </a:xfrm>
        </p:grpSpPr>
        <p:sp>
          <p:nvSpPr>
            <p:cNvPr id="135" name=""/>
            <p:cNvSpPr/>
            <p:nvPr/>
          </p:nvSpPr>
          <p:spPr>
            <a:xfrm flipV="1">
              <a:off x="4596840" y="42462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32760" y="42955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3600" y="43462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56800" y="2506680"/>
            <a:ext cx="7604280" cy="1455840"/>
            <a:chOff x="856800" y="2506680"/>
            <a:chExt cx="7604280" cy="1455840"/>
          </a:xfrm>
        </p:grpSpPr>
        <p:sp>
          <p:nvSpPr>
            <p:cNvPr id="139" name=""/>
            <p:cNvSpPr/>
            <p:nvPr/>
          </p:nvSpPr>
          <p:spPr>
            <a:xfrm flipH="1">
              <a:off x="874080" y="385452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8085960" y="260460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157960" y="263664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856800" y="374940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476800" y="358632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576320" y="250668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75040" y="374976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70120" y="4022640"/>
            <a:ext cx="7943400" cy="409680"/>
            <a:chOff x="870120" y="4022640"/>
            <a:chExt cx="7943400" cy="409680"/>
          </a:xfrm>
        </p:grpSpPr>
        <p:sp>
          <p:nvSpPr>
            <p:cNvPr id="147" name=""/>
            <p:cNvSpPr/>
            <p:nvPr/>
          </p:nvSpPr>
          <p:spPr>
            <a:xfrm flipH="1">
              <a:off x="878400" y="4427640"/>
              <a:ext cx="7932960" cy="3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76120" y="4022640"/>
              <a:ext cx="0" cy="40824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70120" y="43052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38480" y="432900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00680" y="4226040"/>
              <a:ext cx="0" cy="2062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2673000" y="3741840"/>
            <a:ext cx="1909800" cy="856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273720" y="3790440"/>
            <a:ext cx="274680" cy="1116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262560" y="3715920"/>
            <a:ext cx="166680" cy="972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848640" y="3731760"/>
            <a:ext cx="197460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640040" y="3735360"/>
            <a:ext cx="1633320" cy="3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618080" y="3805200"/>
            <a:ext cx="1660320" cy="45072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21400" y="3797280"/>
            <a:ext cx="351000" cy="324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415200" y="3602160"/>
            <a:ext cx="376200" cy="1108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501040" y="3751200"/>
            <a:ext cx="0" cy="39528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41720" y="3878280"/>
            <a:ext cx="27612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302680" y="3066480"/>
            <a:ext cx="263520" cy="835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16600" y="3130560"/>
            <a:ext cx="1830600" cy="51912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8228880" y="3013200"/>
            <a:ext cx="64800" cy="20448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52480" y="4267080"/>
            <a:ext cx="1928520" cy="152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45960" y="177480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Das ganze Herzstück entweder z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Masse oder zur Rückmeldung sc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633080" y="4901760"/>
            <a:ext cx="288360" cy="919080"/>
            <a:chOff x="7633080" y="4901760"/>
            <a:chExt cx="288360" cy="919080"/>
          </a:xfrm>
        </p:grpSpPr>
        <p:sp>
          <p:nvSpPr>
            <p:cNvPr id="168" name=""/>
            <p:cNvSpPr/>
            <p:nvPr/>
          </p:nvSpPr>
          <p:spPr>
            <a:xfrm flipV="1" rot="16200000">
              <a:off x="7815600" y="5049360"/>
              <a:ext cx="74520" cy="82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6200000">
              <a:off x="7636680" y="4897440"/>
              <a:ext cx="74520" cy="8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6200000">
              <a:off x="7636680" y="5189400"/>
              <a:ext cx="74520" cy="8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688160" y="5115960"/>
              <a:ext cx="14436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46760" y="5161320"/>
              <a:ext cx="274680" cy="659520"/>
              <a:chOff x="7646760" y="5161320"/>
              <a:chExt cx="274680" cy="659520"/>
            </a:xfrm>
          </p:grpSpPr>
          <p:sp>
            <p:nvSpPr>
              <p:cNvPr id="173" name=""/>
              <p:cNvSpPr/>
              <p:nvPr/>
            </p:nvSpPr>
            <p:spPr>
              <a:xfrm>
                <a:off x="7770600" y="516132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6200000">
                <a:off x="7587360" y="5486400"/>
                <a:ext cx="393480" cy="274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646760" y="5548320"/>
                <a:ext cx="26784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5191200" y="2714760"/>
            <a:ext cx="463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83560" y="52387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883560" y="49435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2040" y="46324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08240" y="4975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962080" y="5638680"/>
            <a:ext cx="469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35200" y="4455360"/>
            <a:ext cx="276120" cy="659520"/>
            <a:chOff x="3535200" y="4455360"/>
            <a:chExt cx="276120" cy="659520"/>
          </a:xfrm>
        </p:grpSpPr>
        <p:sp>
          <p:nvSpPr>
            <p:cNvPr id="183" name=""/>
            <p:cNvSpPr/>
            <p:nvPr/>
          </p:nvSpPr>
          <p:spPr>
            <a:xfrm>
              <a:off x="3687120" y="44553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3476520" y="4780080"/>
              <a:ext cx="39348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3542040" y="4842360"/>
              <a:ext cx="2692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817800" y="48960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87720" y="4660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56196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97640" y="5391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312720" y="490536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1920" y="490536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098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002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868040" y="56293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0" y="53658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11440" y="55245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86040" y="532404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 rot="5400000">
            <a:off x="2672280" y="5005800"/>
            <a:ext cx="243000" cy="346320"/>
          </a:xfrm>
          <a:custGeom>
            <a:avLst/>
            <a:gdLst>
              <a:gd name="textAreaLeft" fmla="*/ 15480 w 243000"/>
              <a:gd name="textAreaRight" fmla="*/ 227520 w 243000"/>
              <a:gd name="textAreaTop" fmla="*/ 15480 h 346320"/>
              <a:gd name="textAreaBottom" fmla="*/ 330840 h 346320"/>
            </a:gdLst>
            <a:ahLst/>
            <a:rect l="textAreaLeft" t="textAreaTop" r="textAreaRight" b="textAreaBottom"/>
            <a:pathLst>
              <a:path w="21600" h="30770">
                <a:moveTo>
                  <a:pt x="0" y="0"/>
                </a:moveTo>
                <a:lnTo>
                  <a:pt x="21600" y="0"/>
                </a:lnTo>
                <a:lnTo>
                  <a:pt x="21600" y="30770"/>
                </a:lnTo>
                <a:lnTo>
                  <a:pt x="0" y="30770"/>
                </a:lnTo>
                <a:close/>
              </a:path>
              <a:path fill="lightenLess" w="21600" h="30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0">
                <a:moveTo>
                  <a:pt x="21600" y="0"/>
                </a:moveTo>
                <a:lnTo>
                  <a:pt x="21600" y="30770"/>
                </a:lnTo>
                <a:lnTo>
                  <a:pt x="20200" y="29370"/>
                </a:lnTo>
                <a:lnTo>
                  <a:pt x="20200" y="1400"/>
                </a:lnTo>
                <a:close/>
              </a:path>
              <a:path fill="darkenLess" w="21600" h="30770">
                <a:moveTo>
                  <a:pt x="21600" y="30770"/>
                </a:moveTo>
                <a:lnTo>
                  <a:pt x="0" y="30770"/>
                </a:lnTo>
                <a:lnTo>
                  <a:pt x="1400" y="29370"/>
                </a:lnTo>
                <a:lnTo>
                  <a:pt x="20200" y="29370"/>
                </a:lnTo>
                <a:close/>
              </a:path>
              <a:path fill="lighten" w="21600" h="30770">
                <a:moveTo>
                  <a:pt x="0" y="30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0"/>
                </a:lnTo>
                <a:close/>
              </a:path>
              <a:path fill="darken" w="21600" h="30770">
                <a:moveTo>
                  <a:pt x="3794" y="8379"/>
                </a:moveTo>
                <a:lnTo>
                  <a:pt x="17806" y="15385"/>
                </a:lnTo>
                <a:lnTo>
                  <a:pt x="3794" y="2239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99520" y="26478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369360" y="26575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305840" y="46101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6640" y="46101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90680" y="444816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3120" y="46512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Hier drü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70080" y="521964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87520" y="4556160"/>
            <a:ext cx="591480" cy="365040"/>
            <a:chOff x="2387520" y="4556160"/>
            <a:chExt cx="591480" cy="365040"/>
          </a:xfrm>
        </p:grpSpPr>
        <p:grpSp>
          <p:nvGrpSpPr>
            <p:cNvPr id="207" name=""/>
            <p:cNvGrpSpPr/>
            <p:nvPr/>
          </p:nvGrpSpPr>
          <p:grpSpPr>
            <a:xfrm>
              <a:off x="2605320" y="4556160"/>
              <a:ext cx="373680" cy="365040"/>
              <a:chOff x="2605320" y="4556160"/>
              <a:chExt cx="373680" cy="365040"/>
            </a:xfrm>
          </p:grpSpPr>
          <p:sp>
            <p:nvSpPr>
              <p:cNvPr id="208" name=""/>
              <p:cNvSpPr/>
              <p:nvPr/>
            </p:nvSpPr>
            <p:spPr>
              <a:xfrm rot="5400000">
                <a:off x="2609640" y="4551840"/>
                <a:ext cx="365040" cy="373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629080" y="4557960"/>
                <a:ext cx="325080" cy="361800"/>
                <a:chOff x="2629080" y="4557960"/>
                <a:chExt cx="325080" cy="361800"/>
              </a:xfrm>
            </p:grpSpPr>
            <p:sp>
              <p:nvSpPr>
                <p:cNvPr id="210" name=""/>
                <p:cNvSpPr/>
                <p:nvPr/>
              </p:nvSpPr>
              <p:spPr>
                <a:xfrm rot="336000">
                  <a:off x="2646000" y="4562280"/>
                  <a:ext cx="113040" cy="3524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21264000">
                  <a:off x="2823480" y="4562640"/>
                  <a:ext cx="113400" cy="3524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 flipH="1">
              <a:off x="2387520" y="4738680"/>
              <a:ext cx="21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416400" y="4552920"/>
            <a:ext cx="504720" cy="75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0200" y="4772160"/>
            <a:ext cx="630000" cy="117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416040" y="5391000"/>
            <a:ext cx="2365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67480" y="57657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Weichenantri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62800" y="5810040"/>
            <a:ext cx="78408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48200" y="5661000"/>
            <a:ext cx="25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Ein Bistabiles Relais/Weiche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z.B. VSDM 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3352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lektrische A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428880" y="3800160"/>
            <a:ext cx="1832400" cy="1289520"/>
            <a:chOff x="6428880" y="3800160"/>
            <a:chExt cx="1832400" cy="1289520"/>
          </a:xfrm>
        </p:grpSpPr>
        <p:sp>
          <p:nvSpPr>
            <p:cNvPr id="221" name=""/>
            <p:cNvSpPr/>
            <p:nvPr/>
          </p:nvSpPr>
          <p:spPr>
            <a:xfrm>
              <a:off x="7893000" y="50896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261280" y="4146480"/>
              <a:ext cx="0" cy="9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28880" y="4146480"/>
              <a:ext cx="18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429240" y="380016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8812080" y="387828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53352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lektrische A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3120" y="46512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Hier drü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01600" y="3627360"/>
            <a:ext cx="3401280" cy="340920"/>
            <a:chOff x="1101600" y="3627360"/>
            <a:chExt cx="3401280" cy="340920"/>
          </a:xfrm>
        </p:grpSpPr>
        <p:sp>
          <p:nvSpPr>
            <p:cNvPr id="229" name=""/>
            <p:cNvSpPr/>
            <p:nvPr/>
          </p:nvSpPr>
          <p:spPr>
            <a:xfrm>
              <a:off x="4280040" y="36273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01600" y="39682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506840" y="3576240"/>
            <a:ext cx="199800" cy="174600"/>
            <a:chOff x="4506840" y="3576240"/>
            <a:chExt cx="199800" cy="174600"/>
          </a:xfrm>
        </p:grpSpPr>
        <p:sp>
          <p:nvSpPr>
            <p:cNvPr id="232" name=""/>
            <p:cNvSpPr/>
            <p:nvPr/>
          </p:nvSpPr>
          <p:spPr>
            <a:xfrm flipV="1">
              <a:off x="4600080" y="35762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36000" y="36255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6840" y="36763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503600" y="4246200"/>
            <a:ext cx="199800" cy="174600"/>
            <a:chOff x="4503600" y="4246200"/>
            <a:chExt cx="199800" cy="174600"/>
          </a:xfrm>
        </p:grpSpPr>
        <p:sp>
          <p:nvSpPr>
            <p:cNvPr id="236" name=""/>
            <p:cNvSpPr/>
            <p:nvPr/>
          </p:nvSpPr>
          <p:spPr>
            <a:xfrm flipV="1">
              <a:off x="4596840" y="42462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32760" y="42955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3600" y="43462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56800" y="2506680"/>
            <a:ext cx="7604280" cy="1455840"/>
            <a:chOff x="856800" y="2506680"/>
            <a:chExt cx="7604280" cy="1455840"/>
          </a:xfrm>
        </p:grpSpPr>
        <p:sp>
          <p:nvSpPr>
            <p:cNvPr id="240" name=""/>
            <p:cNvSpPr/>
            <p:nvPr/>
          </p:nvSpPr>
          <p:spPr>
            <a:xfrm flipH="1">
              <a:off x="874080" y="385452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8085960" y="260460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8157960" y="263664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856800" y="374940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476800" y="358632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576320" y="250668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75040" y="374976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70120" y="4022640"/>
            <a:ext cx="7943400" cy="409680"/>
            <a:chOff x="870120" y="4022640"/>
            <a:chExt cx="7943400" cy="409680"/>
          </a:xfrm>
        </p:grpSpPr>
        <p:sp>
          <p:nvSpPr>
            <p:cNvPr id="248" name=""/>
            <p:cNvSpPr/>
            <p:nvPr/>
          </p:nvSpPr>
          <p:spPr>
            <a:xfrm flipH="1">
              <a:off x="878400" y="4427640"/>
              <a:ext cx="7932960" cy="3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76120" y="4022640"/>
              <a:ext cx="0" cy="40824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70120" y="43052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38480" y="432900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00680" y="4226040"/>
              <a:ext cx="0" cy="2062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H="1">
            <a:off x="2673000" y="3741840"/>
            <a:ext cx="1909800" cy="85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273720" y="3790440"/>
            <a:ext cx="274680" cy="1116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262560" y="3715920"/>
            <a:ext cx="166680" cy="972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848640" y="3731760"/>
            <a:ext cx="197460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640040" y="3735360"/>
            <a:ext cx="1633320" cy="32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618080" y="3805200"/>
            <a:ext cx="1660320" cy="450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21400" y="3797280"/>
            <a:ext cx="351000" cy="3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415200" y="3602160"/>
            <a:ext cx="376200" cy="1108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501040" y="3751200"/>
            <a:ext cx="0" cy="39528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41720" y="3878280"/>
            <a:ext cx="27612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302680" y="3066480"/>
            <a:ext cx="263520" cy="835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816600" y="3130560"/>
            <a:ext cx="1830600" cy="51912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8228880" y="3013200"/>
            <a:ext cx="64800" cy="20448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52480" y="4267080"/>
            <a:ext cx="1928520" cy="152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33080" y="4901760"/>
            <a:ext cx="288360" cy="919080"/>
            <a:chOff x="7633080" y="4901760"/>
            <a:chExt cx="288360" cy="919080"/>
          </a:xfrm>
        </p:grpSpPr>
        <p:sp>
          <p:nvSpPr>
            <p:cNvPr id="268" name=""/>
            <p:cNvSpPr/>
            <p:nvPr/>
          </p:nvSpPr>
          <p:spPr>
            <a:xfrm flipV="1" rot="16200000">
              <a:off x="7815600" y="5049360"/>
              <a:ext cx="74520" cy="82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6200000">
              <a:off x="7636680" y="4897440"/>
              <a:ext cx="74520" cy="8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6200000">
              <a:off x="7636680" y="5189400"/>
              <a:ext cx="74520" cy="8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688160" y="5115960"/>
              <a:ext cx="14436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46760" y="5161320"/>
              <a:ext cx="274680" cy="659520"/>
              <a:chOff x="7646760" y="5161320"/>
              <a:chExt cx="274680" cy="659520"/>
            </a:xfrm>
          </p:grpSpPr>
          <p:sp>
            <p:nvSpPr>
              <p:cNvPr id="273" name=""/>
              <p:cNvSpPr/>
              <p:nvPr/>
            </p:nvSpPr>
            <p:spPr>
              <a:xfrm>
                <a:off x="7770600" y="516132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7587360" y="5486400"/>
                <a:ext cx="393480" cy="274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46760" y="5548320"/>
                <a:ext cx="26784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5191200" y="2714760"/>
            <a:ext cx="463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883560" y="52387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883560" y="49435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2040" y="46324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08240" y="4975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962080" y="5638680"/>
            <a:ext cx="469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35200" y="4455360"/>
            <a:ext cx="276120" cy="659520"/>
            <a:chOff x="3535200" y="4455360"/>
            <a:chExt cx="276120" cy="659520"/>
          </a:xfrm>
        </p:grpSpPr>
        <p:sp>
          <p:nvSpPr>
            <p:cNvPr id="283" name=""/>
            <p:cNvSpPr/>
            <p:nvPr/>
          </p:nvSpPr>
          <p:spPr>
            <a:xfrm>
              <a:off x="3687120" y="44553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3476520" y="4780080"/>
              <a:ext cx="39348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542040" y="4842360"/>
              <a:ext cx="2692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817800" y="48960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87720" y="4660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4680" y="56196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94600" y="5384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312720" y="490536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01920" y="490536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098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002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868040" y="56293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200" y="53658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11440" y="55245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786040" y="532404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99520" y="26478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369360" y="26575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305840" y="46101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6640" y="46101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90680" y="444816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70080" y="521964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20200" y="2232000"/>
            <a:ext cx="54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Jetzt ist das Herzstück als Masse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87520" y="4556160"/>
            <a:ext cx="591480" cy="365040"/>
            <a:chOff x="2387520" y="4556160"/>
            <a:chExt cx="591480" cy="365040"/>
          </a:xfrm>
        </p:grpSpPr>
        <p:grpSp>
          <p:nvGrpSpPr>
            <p:cNvPr id="306" name=""/>
            <p:cNvGrpSpPr/>
            <p:nvPr/>
          </p:nvGrpSpPr>
          <p:grpSpPr>
            <a:xfrm>
              <a:off x="2605320" y="4556160"/>
              <a:ext cx="373680" cy="365040"/>
              <a:chOff x="2605320" y="4556160"/>
              <a:chExt cx="373680" cy="365040"/>
            </a:xfrm>
          </p:grpSpPr>
          <p:sp>
            <p:nvSpPr>
              <p:cNvPr id="307" name=""/>
              <p:cNvSpPr/>
              <p:nvPr/>
            </p:nvSpPr>
            <p:spPr>
              <a:xfrm rot="5400000">
                <a:off x="2609640" y="4551840"/>
                <a:ext cx="365040" cy="373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2629080" y="4557960"/>
                <a:ext cx="325080" cy="361800"/>
                <a:chOff x="2629080" y="4557960"/>
                <a:chExt cx="325080" cy="361800"/>
              </a:xfrm>
            </p:grpSpPr>
            <p:sp>
              <p:nvSpPr>
                <p:cNvPr id="309" name=""/>
                <p:cNvSpPr/>
                <p:nvPr/>
              </p:nvSpPr>
              <p:spPr>
                <a:xfrm rot="336000">
                  <a:off x="2646000" y="4562280"/>
                  <a:ext cx="113040" cy="3524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rot="21264000">
                  <a:off x="2823480" y="4562640"/>
                  <a:ext cx="113400" cy="3524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 flipH="1">
              <a:off x="2387520" y="4738680"/>
              <a:ext cx="21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28880" y="3800160"/>
            <a:ext cx="1832400" cy="1289520"/>
            <a:chOff x="6428880" y="3800160"/>
            <a:chExt cx="1832400" cy="1289520"/>
          </a:xfrm>
        </p:grpSpPr>
        <p:sp>
          <p:nvSpPr>
            <p:cNvPr id="313" name=""/>
            <p:cNvSpPr/>
            <p:nvPr/>
          </p:nvSpPr>
          <p:spPr>
            <a:xfrm>
              <a:off x="7893000" y="50896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8261280" y="4146480"/>
              <a:ext cx="0" cy="9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428880" y="4146480"/>
              <a:ext cx="18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29240" y="380016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8812080" y="387828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 rot="5400000">
            <a:off x="2672280" y="5005800"/>
            <a:ext cx="243000" cy="346320"/>
          </a:xfrm>
          <a:custGeom>
            <a:avLst/>
            <a:gdLst>
              <a:gd name="textAreaLeft" fmla="*/ 15480 w 243000"/>
              <a:gd name="textAreaRight" fmla="*/ 227520 w 243000"/>
              <a:gd name="textAreaTop" fmla="*/ 15480 h 346320"/>
              <a:gd name="textAreaBottom" fmla="*/ 330840 h 346320"/>
            </a:gdLst>
            <a:ahLst/>
            <a:rect l="textAreaLeft" t="textAreaTop" r="textAreaRight" b="textAreaBottom"/>
            <a:pathLst>
              <a:path w="21600" h="30770">
                <a:moveTo>
                  <a:pt x="0" y="0"/>
                </a:moveTo>
                <a:lnTo>
                  <a:pt x="21600" y="0"/>
                </a:lnTo>
                <a:lnTo>
                  <a:pt x="21600" y="30770"/>
                </a:lnTo>
                <a:lnTo>
                  <a:pt x="0" y="30770"/>
                </a:lnTo>
                <a:close/>
              </a:path>
              <a:path fill="lightenLess" w="21600" h="30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0">
                <a:moveTo>
                  <a:pt x="21600" y="0"/>
                </a:moveTo>
                <a:lnTo>
                  <a:pt x="21600" y="30770"/>
                </a:lnTo>
                <a:lnTo>
                  <a:pt x="20200" y="29370"/>
                </a:lnTo>
                <a:lnTo>
                  <a:pt x="20200" y="1400"/>
                </a:lnTo>
                <a:close/>
              </a:path>
              <a:path fill="darkenLess" w="21600" h="30770">
                <a:moveTo>
                  <a:pt x="21600" y="30770"/>
                </a:moveTo>
                <a:lnTo>
                  <a:pt x="0" y="30770"/>
                </a:lnTo>
                <a:lnTo>
                  <a:pt x="1400" y="29370"/>
                </a:lnTo>
                <a:lnTo>
                  <a:pt x="20200" y="29370"/>
                </a:lnTo>
                <a:close/>
              </a:path>
              <a:path fill="lighten" w="21600" h="30770">
                <a:moveTo>
                  <a:pt x="0" y="30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0"/>
                </a:lnTo>
                <a:close/>
              </a:path>
              <a:path fill="darken" w="21600" h="30770">
                <a:moveTo>
                  <a:pt x="3794" y="8379"/>
                </a:moveTo>
                <a:lnTo>
                  <a:pt x="17806" y="15385"/>
                </a:lnTo>
                <a:lnTo>
                  <a:pt x="3794" y="2239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01600" y="3627360"/>
            <a:ext cx="3401280" cy="340920"/>
            <a:chOff x="1101600" y="3627360"/>
            <a:chExt cx="3401280" cy="340920"/>
          </a:xfrm>
        </p:grpSpPr>
        <p:sp>
          <p:nvSpPr>
            <p:cNvPr id="320" name=""/>
            <p:cNvSpPr/>
            <p:nvPr/>
          </p:nvSpPr>
          <p:spPr>
            <a:xfrm>
              <a:off x="4280040" y="3627360"/>
              <a:ext cx="22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01600" y="3968280"/>
              <a:ext cx="1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06840" y="3576240"/>
            <a:ext cx="199800" cy="174600"/>
            <a:chOff x="4506840" y="3576240"/>
            <a:chExt cx="199800" cy="174600"/>
          </a:xfrm>
        </p:grpSpPr>
        <p:sp>
          <p:nvSpPr>
            <p:cNvPr id="323" name=""/>
            <p:cNvSpPr/>
            <p:nvPr/>
          </p:nvSpPr>
          <p:spPr>
            <a:xfrm flipV="1">
              <a:off x="4600080" y="357624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36000" y="362556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06840" y="367632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503600" y="4246200"/>
            <a:ext cx="199800" cy="174600"/>
            <a:chOff x="4503600" y="4246200"/>
            <a:chExt cx="199800" cy="174600"/>
          </a:xfrm>
        </p:grpSpPr>
        <p:sp>
          <p:nvSpPr>
            <p:cNvPr id="327" name=""/>
            <p:cNvSpPr/>
            <p:nvPr/>
          </p:nvSpPr>
          <p:spPr>
            <a:xfrm flipV="1">
              <a:off x="4596840" y="4246200"/>
              <a:ext cx="1440" cy="17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32760" y="4295520"/>
              <a:ext cx="12204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03600" y="4346280"/>
              <a:ext cx="199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856800" y="2506680"/>
            <a:ext cx="7604280" cy="1455840"/>
            <a:chOff x="856800" y="2506680"/>
            <a:chExt cx="7604280" cy="1455840"/>
          </a:xfrm>
        </p:grpSpPr>
        <p:sp>
          <p:nvSpPr>
            <p:cNvPr id="331" name=""/>
            <p:cNvSpPr/>
            <p:nvPr/>
          </p:nvSpPr>
          <p:spPr>
            <a:xfrm flipH="1">
              <a:off x="874080" y="3854520"/>
              <a:ext cx="27504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8085960" y="2604600"/>
              <a:ext cx="114480" cy="36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8157960" y="2636640"/>
              <a:ext cx="262080" cy="82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856800" y="3749400"/>
              <a:ext cx="1619640" cy="468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476800" y="3586320"/>
              <a:ext cx="2094480" cy="163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576320" y="2506680"/>
              <a:ext cx="3884760" cy="1076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5040" y="3749760"/>
              <a:ext cx="0" cy="212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870120" y="4022640"/>
            <a:ext cx="7943400" cy="409680"/>
            <a:chOff x="870120" y="4022640"/>
            <a:chExt cx="7943400" cy="409680"/>
          </a:xfrm>
        </p:grpSpPr>
        <p:sp>
          <p:nvSpPr>
            <p:cNvPr id="339" name=""/>
            <p:cNvSpPr/>
            <p:nvPr/>
          </p:nvSpPr>
          <p:spPr>
            <a:xfrm flipH="1">
              <a:off x="878400" y="4427640"/>
              <a:ext cx="7932960" cy="3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76120" y="4022640"/>
              <a:ext cx="0" cy="40824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870120" y="430524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38480" y="4329000"/>
              <a:ext cx="27504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00680" y="4226040"/>
              <a:ext cx="0" cy="2062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6273720" y="3790440"/>
            <a:ext cx="274680" cy="1116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262560" y="3715920"/>
            <a:ext cx="166680" cy="97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848640" y="3731760"/>
            <a:ext cx="197460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640040" y="3735360"/>
            <a:ext cx="163332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18080" y="3805200"/>
            <a:ext cx="1660320" cy="4507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21400" y="3797280"/>
            <a:ext cx="351000" cy="3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415200" y="3602160"/>
            <a:ext cx="376200" cy="110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8501040" y="3751200"/>
            <a:ext cx="0" cy="39528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41720" y="3878280"/>
            <a:ext cx="27612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302680" y="3066480"/>
            <a:ext cx="263520" cy="835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816600" y="3130560"/>
            <a:ext cx="1830600" cy="51912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8228880" y="3013200"/>
            <a:ext cx="64800" cy="20448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93520" y="4267080"/>
            <a:ext cx="1887480" cy="763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8920" y="222264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Jetzt ist das Herzstück als Rückmeldung gescha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 rot="16200000">
            <a:off x="7812720" y="5047920"/>
            <a:ext cx="74520" cy="82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 rot="16200000">
            <a:off x="7634880" y="4896000"/>
            <a:ext cx="74520" cy="8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 rot="16200000">
            <a:off x="7634880" y="5187960"/>
            <a:ext cx="74520" cy="82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84920" y="4957200"/>
            <a:ext cx="14472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16200000">
            <a:off x="7583400" y="5484600"/>
            <a:ext cx="3938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642080" y="5546880"/>
            <a:ext cx="26856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91200" y="2714760"/>
            <a:ext cx="463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53400" y="5086440"/>
            <a:ext cx="11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812080" y="38862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997840" y="3895560"/>
            <a:ext cx="0" cy="11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883560" y="52387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883560" y="494352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2040" y="46324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08240" y="4975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62080" y="5638680"/>
            <a:ext cx="469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535200" y="4455360"/>
            <a:ext cx="276120" cy="659520"/>
            <a:chOff x="3535200" y="4455360"/>
            <a:chExt cx="276120" cy="659520"/>
          </a:xfrm>
        </p:grpSpPr>
        <p:sp>
          <p:nvSpPr>
            <p:cNvPr id="374" name=""/>
            <p:cNvSpPr/>
            <p:nvPr/>
          </p:nvSpPr>
          <p:spPr>
            <a:xfrm>
              <a:off x="3687120" y="44553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3476520" y="4780080"/>
              <a:ext cx="39348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3542040" y="4842360"/>
              <a:ext cx="2692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817800" y="48960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87720" y="4660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24680" y="561960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94600" y="5384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312720" y="490536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01920" y="490536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098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00280" y="5591160"/>
            <a:ext cx="8100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868040" y="56293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3200" y="53658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11440" y="55245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786040" y="532404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  <a:hlinkClick r:id="rId1"/>
          </p:cNvPr>
          <p:cNvSpPr/>
          <p:nvPr/>
        </p:nvSpPr>
        <p:spPr>
          <a:xfrm rot="5400000">
            <a:off x="2672280" y="5005800"/>
            <a:ext cx="243000" cy="346320"/>
          </a:xfrm>
          <a:custGeom>
            <a:avLst/>
            <a:gdLst>
              <a:gd name="textAreaLeft" fmla="*/ 15480 w 243000"/>
              <a:gd name="textAreaRight" fmla="*/ 227520 w 243000"/>
              <a:gd name="textAreaTop" fmla="*/ 15480 h 346320"/>
              <a:gd name="textAreaBottom" fmla="*/ 330840 h 346320"/>
            </a:gdLst>
            <a:ahLst/>
            <a:rect l="textAreaLeft" t="textAreaTop" r="textAreaRight" b="textAreaBottom"/>
            <a:pathLst>
              <a:path w="21600" h="30770">
                <a:moveTo>
                  <a:pt x="0" y="0"/>
                </a:moveTo>
                <a:lnTo>
                  <a:pt x="21600" y="0"/>
                </a:lnTo>
                <a:lnTo>
                  <a:pt x="21600" y="30770"/>
                </a:lnTo>
                <a:lnTo>
                  <a:pt x="0" y="30770"/>
                </a:lnTo>
                <a:close/>
              </a:path>
              <a:path fill="lightenLess" w="21600" h="30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0">
                <a:moveTo>
                  <a:pt x="21600" y="0"/>
                </a:moveTo>
                <a:lnTo>
                  <a:pt x="21600" y="30770"/>
                </a:lnTo>
                <a:lnTo>
                  <a:pt x="20200" y="29370"/>
                </a:lnTo>
                <a:lnTo>
                  <a:pt x="20200" y="1400"/>
                </a:lnTo>
                <a:close/>
              </a:path>
              <a:path fill="darkenLess" w="21600" h="30770">
                <a:moveTo>
                  <a:pt x="21600" y="30770"/>
                </a:moveTo>
                <a:lnTo>
                  <a:pt x="0" y="30770"/>
                </a:lnTo>
                <a:lnTo>
                  <a:pt x="1400" y="29370"/>
                </a:lnTo>
                <a:lnTo>
                  <a:pt x="20200" y="29370"/>
                </a:lnTo>
                <a:close/>
              </a:path>
              <a:path fill="lighten" w="21600" h="30770">
                <a:moveTo>
                  <a:pt x="0" y="30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0"/>
                </a:lnTo>
                <a:close/>
              </a:path>
              <a:path fill="darken" w="21600" h="30770">
                <a:moveTo>
                  <a:pt x="3794" y="8379"/>
                </a:moveTo>
                <a:lnTo>
                  <a:pt x="17806" y="15385"/>
                </a:lnTo>
                <a:lnTo>
                  <a:pt x="3794" y="2239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99520" y="2647800"/>
            <a:ext cx="9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369360" y="26575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05840" y="46101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16640" y="461016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0680" y="444816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3120" y="46512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Hier drü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70080" y="521964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661840" y="3733920"/>
            <a:ext cx="1940040" cy="9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80320" y="50292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394000" y="4743360"/>
            <a:ext cx="570960" cy="152640"/>
            <a:chOff x="2394000" y="4743360"/>
            <a:chExt cx="570960" cy="152640"/>
          </a:xfrm>
        </p:grpSpPr>
        <p:sp>
          <p:nvSpPr>
            <p:cNvPr id="400" name=""/>
            <p:cNvSpPr/>
            <p:nvPr/>
          </p:nvSpPr>
          <p:spPr>
            <a:xfrm>
              <a:off x="2610720" y="4743360"/>
              <a:ext cx="354240" cy="152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94000" y="4827600"/>
              <a:ext cx="216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0" y="53352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lektrische A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394640" y="387360"/>
            <a:ext cx="77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A - D) - Einfahrt nach rec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502920" y="3305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 rot="16200000">
            <a:off x="31158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 rot="16200000">
            <a:off x="302796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 rot="16200000">
            <a:off x="302688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 rot="16200000">
            <a:off x="30013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03048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 rot="16200000">
            <a:off x="708660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 rot="16200000">
            <a:off x="69966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 rot="16200000">
            <a:off x="69955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 rot="16200000">
            <a:off x="696996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99912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86704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67040" y="37623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67040" y="4524480"/>
            <a:ext cx="39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837120" y="3754440"/>
            <a:ext cx="16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6899400" y="3902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994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95092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5128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51280" y="464328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67040" y="4753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65480" y="4645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7000" y="4898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u Rückme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164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rId3" action="ppaction://hlinksldjump"/>
          </p:cNvPr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4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853920" y="2617920"/>
            <a:ext cx="1704600" cy="171360"/>
            <a:chOff x="853920" y="2617920"/>
            <a:chExt cx="1704600" cy="171360"/>
          </a:xfrm>
        </p:grpSpPr>
        <p:sp>
          <p:nvSpPr>
            <p:cNvPr id="436" name=""/>
            <p:cNvSpPr/>
            <p:nvPr/>
          </p:nvSpPr>
          <p:spPr>
            <a:xfrm>
              <a:off x="2446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392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60680" y="2727360"/>
            <a:ext cx="100080" cy="87120"/>
            <a:chOff x="2560680" y="2727360"/>
            <a:chExt cx="100080" cy="87120"/>
          </a:xfrm>
        </p:grpSpPr>
        <p:sp>
          <p:nvSpPr>
            <p:cNvPr id="439" name=""/>
            <p:cNvSpPr/>
            <p:nvPr/>
          </p:nvSpPr>
          <p:spPr>
            <a:xfrm>
              <a:off x="260712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57508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6068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558880" y="2390760"/>
            <a:ext cx="100080" cy="87480"/>
            <a:chOff x="2558880" y="2390760"/>
            <a:chExt cx="100080" cy="87480"/>
          </a:xfrm>
        </p:grpSpPr>
        <p:sp>
          <p:nvSpPr>
            <p:cNvPr id="443" name=""/>
            <p:cNvSpPr/>
            <p:nvPr/>
          </p:nvSpPr>
          <p:spPr>
            <a:xfrm>
              <a:off x="2605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573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8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 flipH="1">
            <a:off x="741240" y="26748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35096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88760" y="3243240"/>
            <a:ext cx="12996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33320" y="2725560"/>
            <a:ext cx="811440" cy="18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4476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560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89208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744480" y="2386080"/>
            <a:ext cx="39686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9208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39800" y="24494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55940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2733840"/>
            <a:ext cx="1781280" cy="28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5940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9200" y="2662200"/>
            <a:ext cx="244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60040" y="3055680"/>
            <a:ext cx="122760" cy="388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71628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42260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609560" y="2154240"/>
            <a:ext cx="177840" cy="76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01560" y="2187720"/>
            <a:ext cx="10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33920" y="303696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43560" y="3349800"/>
            <a:ext cx="91728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18000" y="32763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655880" y="320256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728960" y="3074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3600" y="309240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59480" y="327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9492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85280" y="303372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496360" y="334656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824360" y="2617920"/>
            <a:ext cx="1703160" cy="171360"/>
            <a:chOff x="4824360" y="2617920"/>
            <a:chExt cx="1703160" cy="171360"/>
          </a:xfrm>
        </p:grpSpPr>
        <p:sp>
          <p:nvSpPr>
            <p:cNvPr id="476" name=""/>
            <p:cNvSpPr/>
            <p:nvPr/>
          </p:nvSpPr>
          <p:spPr>
            <a:xfrm>
              <a:off x="6415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2436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529320" y="2727360"/>
            <a:ext cx="100080" cy="87120"/>
            <a:chOff x="6529320" y="2727360"/>
            <a:chExt cx="100080" cy="87120"/>
          </a:xfrm>
        </p:grpSpPr>
        <p:sp>
          <p:nvSpPr>
            <p:cNvPr id="479" name=""/>
            <p:cNvSpPr/>
            <p:nvPr/>
          </p:nvSpPr>
          <p:spPr>
            <a:xfrm>
              <a:off x="657576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54372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2932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527880" y="2390760"/>
            <a:ext cx="100080" cy="87480"/>
            <a:chOff x="6527880" y="2390760"/>
            <a:chExt cx="100080" cy="87480"/>
          </a:xfrm>
        </p:grpSpPr>
        <p:sp>
          <p:nvSpPr>
            <p:cNvPr id="483" name=""/>
            <p:cNvSpPr/>
            <p:nvPr/>
          </p:nvSpPr>
          <p:spPr>
            <a:xfrm>
              <a:off x="6574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542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27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H="1">
            <a:off x="832140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58120" y="324288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1340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6424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86252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4712760" y="2386080"/>
            <a:ext cx="39704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86252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592520" y="2449440"/>
            <a:ext cx="25416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547120" y="24368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852804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13480" y="2700360"/>
            <a:ext cx="1382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408800" y="273852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701120" y="2733840"/>
            <a:ext cx="98892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6597720" y="2731680"/>
            <a:ext cx="8157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6585120" y="2472840"/>
            <a:ext cx="830160" cy="225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7537320" y="2701440"/>
            <a:ext cx="176400" cy="18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85120" y="2744640"/>
            <a:ext cx="189000" cy="57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52804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548560" y="26622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428680" y="3054960"/>
            <a:ext cx="124200" cy="392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8492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839124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5619240" y="2430360"/>
            <a:ext cx="946440" cy="381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605560" y="2730240"/>
            <a:ext cx="97128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70200" y="2154240"/>
            <a:ext cx="285840" cy="76320"/>
            <a:chOff x="5470200" y="2154240"/>
            <a:chExt cx="285840" cy="76320"/>
          </a:xfrm>
        </p:grpSpPr>
        <p:sp>
          <p:nvSpPr>
            <p:cNvPr id="511" name=""/>
            <p:cNvSpPr/>
            <p:nvPr/>
          </p:nvSpPr>
          <p:spPr>
            <a:xfrm flipV="1">
              <a:off x="5578920" y="2154240"/>
              <a:ext cx="17712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470200" y="2188440"/>
              <a:ext cx="1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496360" y="327960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8634240" y="3206160"/>
            <a:ext cx="57600" cy="1821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8706960" y="3076920"/>
            <a:ext cx="32400" cy="1026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1960" y="309564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 rot="1077000">
            <a:off x="5470200" y="326340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266560" y="1752480"/>
            <a:ext cx="1180080" cy="307080"/>
            <a:chOff x="2266560" y="1752480"/>
            <a:chExt cx="1180080" cy="307080"/>
          </a:xfrm>
        </p:grpSpPr>
        <p:sp>
          <p:nvSpPr>
            <p:cNvPr id="519" name=""/>
            <p:cNvSpPr/>
            <p:nvPr/>
          </p:nvSpPr>
          <p:spPr>
            <a:xfrm>
              <a:off x="2266560" y="1752480"/>
              <a:ext cx="115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Times New Roman"/>
                </a:rPr>
                <a:t>Fahrtrich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40000" y="2057040"/>
              <a:ext cx="11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4623120" y="2953440"/>
            <a:ext cx="1005840" cy="29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994800">
            <a:off x="4820040" y="289368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 rot="1077000">
            <a:off x="9432720" y="326772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37480" y="3754440"/>
            <a:ext cx="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120080" y="2744640"/>
            <a:ext cx="371160" cy="1084320"/>
            <a:chOff x="7120080" y="2744640"/>
            <a:chExt cx="371160" cy="1084320"/>
          </a:xfrm>
        </p:grpSpPr>
        <p:sp>
          <p:nvSpPr>
            <p:cNvPr id="526" name=""/>
            <p:cNvSpPr/>
            <p:nvPr/>
          </p:nvSpPr>
          <p:spPr>
            <a:xfrm>
              <a:off x="71200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74912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842652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37480" y="4524480"/>
            <a:ext cx="15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7984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165480" y="2744640"/>
            <a:ext cx="371160" cy="1084320"/>
            <a:chOff x="3165480" y="2744640"/>
            <a:chExt cx="371160" cy="1084320"/>
          </a:xfrm>
        </p:grpSpPr>
        <p:sp>
          <p:nvSpPr>
            <p:cNvPr id="532" name=""/>
            <p:cNvSpPr/>
            <p:nvPr/>
          </p:nvSpPr>
          <p:spPr>
            <a:xfrm>
              <a:off x="31654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5366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3444840" y="2700360"/>
            <a:ext cx="1382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40160" y="273852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2626920" y="2731680"/>
            <a:ext cx="8175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2615760" y="2472840"/>
            <a:ext cx="830520" cy="225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568680" y="2701440"/>
            <a:ext cx="174600" cy="18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14680" y="2744640"/>
            <a:ext cx="190440" cy="57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1650960" y="2430360"/>
            <a:ext cx="946080" cy="381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1634760" y="2730240"/>
            <a:ext cx="97164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062160" y="3843360"/>
            <a:ext cx="572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95640" y="3867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029360" y="3841920"/>
            <a:ext cx="57240" cy="4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58160" y="3867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394280" y="38736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A - B) - Einfahrt nach rec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502920" y="3305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 rot="16200000">
            <a:off x="31158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 rot="16200000">
            <a:off x="302796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 rot="16200000">
            <a:off x="302688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 rot="16200000">
            <a:off x="30013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03048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 rot="16200000">
            <a:off x="708660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 rot="16200000">
            <a:off x="69966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 rot="16200000">
            <a:off x="69955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 rot="16200000">
            <a:off x="696996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99912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86704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67040" y="37623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67040" y="4524480"/>
            <a:ext cx="39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837120" y="3754440"/>
            <a:ext cx="16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899400" y="3902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994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295092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5128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951280" y="464328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67040" y="4753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65480" y="4645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17000" y="4898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u Rückme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64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44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853920" y="2617920"/>
            <a:ext cx="1704600" cy="171360"/>
            <a:chOff x="853920" y="2617920"/>
            <a:chExt cx="1704600" cy="171360"/>
          </a:xfrm>
        </p:grpSpPr>
        <p:sp>
          <p:nvSpPr>
            <p:cNvPr id="573" name=""/>
            <p:cNvSpPr/>
            <p:nvPr/>
          </p:nvSpPr>
          <p:spPr>
            <a:xfrm>
              <a:off x="2446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5392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560680" y="2727360"/>
            <a:ext cx="100080" cy="87120"/>
            <a:chOff x="2560680" y="2727360"/>
            <a:chExt cx="100080" cy="87120"/>
          </a:xfrm>
        </p:grpSpPr>
        <p:sp>
          <p:nvSpPr>
            <p:cNvPr id="576" name=""/>
            <p:cNvSpPr/>
            <p:nvPr/>
          </p:nvSpPr>
          <p:spPr>
            <a:xfrm>
              <a:off x="260712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57508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6068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558880" y="2390760"/>
            <a:ext cx="100080" cy="87480"/>
            <a:chOff x="2558880" y="2390760"/>
            <a:chExt cx="100080" cy="87480"/>
          </a:xfrm>
        </p:grpSpPr>
        <p:sp>
          <p:nvSpPr>
            <p:cNvPr id="580" name=""/>
            <p:cNvSpPr/>
            <p:nvPr/>
          </p:nvSpPr>
          <p:spPr>
            <a:xfrm>
              <a:off x="2605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573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58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741240" y="26748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35096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88760" y="3243240"/>
            <a:ext cx="12996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33320" y="2725560"/>
            <a:ext cx="811440" cy="18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4476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9560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9208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744480" y="2386080"/>
            <a:ext cx="39686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9208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39800" y="24494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455940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32120" y="2733840"/>
            <a:ext cx="1781280" cy="28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5940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9200" y="2662200"/>
            <a:ext cx="244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60040" y="3055680"/>
            <a:ext cx="122760" cy="388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1628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42260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609560" y="2154240"/>
            <a:ext cx="177840" cy="76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501560" y="2187720"/>
            <a:ext cx="10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33920" y="303696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43560" y="3349800"/>
            <a:ext cx="91728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18000" y="32763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655880" y="320256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728960" y="3074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93600" y="309240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59480" y="327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9492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585280" y="303372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96360" y="334656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824360" y="2617920"/>
            <a:ext cx="1703160" cy="171360"/>
            <a:chOff x="4824360" y="2617920"/>
            <a:chExt cx="1703160" cy="171360"/>
          </a:xfrm>
        </p:grpSpPr>
        <p:sp>
          <p:nvSpPr>
            <p:cNvPr id="613" name=""/>
            <p:cNvSpPr/>
            <p:nvPr/>
          </p:nvSpPr>
          <p:spPr>
            <a:xfrm>
              <a:off x="6415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2436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529320" y="2727360"/>
            <a:ext cx="100080" cy="87120"/>
            <a:chOff x="6529320" y="2727360"/>
            <a:chExt cx="100080" cy="87120"/>
          </a:xfrm>
        </p:grpSpPr>
        <p:sp>
          <p:nvSpPr>
            <p:cNvPr id="616" name=""/>
            <p:cNvSpPr/>
            <p:nvPr/>
          </p:nvSpPr>
          <p:spPr>
            <a:xfrm>
              <a:off x="657576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54372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2932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527880" y="2390760"/>
            <a:ext cx="100080" cy="87480"/>
            <a:chOff x="6527880" y="2390760"/>
            <a:chExt cx="100080" cy="87480"/>
          </a:xfrm>
        </p:grpSpPr>
        <p:sp>
          <p:nvSpPr>
            <p:cNvPr id="620" name=""/>
            <p:cNvSpPr/>
            <p:nvPr/>
          </p:nvSpPr>
          <p:spPr>
            <a:xfrm>
              <a:off x="6574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42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27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 flipH="1">
            <a:off x="832140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58120" y="324288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1340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6424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86252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4712760" y="2386080"/>
            <a:ext cx="39704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86252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4592520" y="2449440"/>
            <a:ext cx="25416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547120" y="24368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852804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13480" y="2700360"/>
            <a:ext cx="1382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08800" y="273852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701120" y="2733840"/>
            <a:ext cx="98892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6597720" y="2731680"/>
            <a:ext cx="8157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6585120" y="2472840"/>
            <a:ext cx="830160" cy="225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537320" y="2701440"/>
            <a:ext cx="176400" cy="18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485120" y="2744640"/>
            <a:ext cx="189000" cy="57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52804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548560" y="26622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428680" y="3054960"/>
            <a:ext cx="124200" cy="392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8492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39124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5619240" y="2430360"/>
            <a:ext cx="946440" cy="381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5605560" y="2730240"/>
            <a:ext cx="97128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470200" y="2154240"/>
            <a:ext cx="285840" cy="76320"/>
            <a:chOff x="5470200" y="2154240"/>
            <a:chExt cx="285840" cy="76320"/>
          </a:xfrm>
        </p:grpSpPr>
        <p:sp>
          <p:nvSpPr>
            <p:cNvPr id="648" name=""/>
            <p:cNvSpPr/>
            <p:nvPr/>
          </p:nvSpPr>
          <p:spPr>
            <a:xfrm flipV="1">
              <a:off x="5578920" y="2154240"/>
              <a:ext cx="17712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470200" y="2188440"/>
              <a:ext cx="1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8496360" y="327960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8634240" y="3206160"/>
            <a:ext cx="57600" cy="1821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8706960" y="3076920"/>
            <a:ext cx="32400" cy="1026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571960" y="309564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 rot="1077000">
            <a:off x="5470200" y="326340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266560" y="1752480"/>
            <a:ext cx="1180080" cy="307080"/>
            <a:chOff x="2266560" y="1752480"/>
            <a:chExt cx="1180080" cy="307080"/>
          </a:xfrm>
        </p:grpSpPr>
        <p:sp>
          <p:nvSpPr>
            <p:cNvPr id="656" name=""/>
            <p:cNvSpPr/>
            <p:nvPr/>
          </p:nvSpPr>
          <p:spPr>
            <a:xfrm>
              <a:off x="2266560" y="1752480"/>
              <a:ext cx="115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Times New Roman"/>
                </a:rPr>
                <a:t>Fahrtrich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0000" y="2057040"/>
              <a:ext cx="11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623120" y="2953440"/>
            <a:ext cx="1005840" cy="29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994800">
            <a:off x="4820040" y="289368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 rot="1077000">
            <a:off x="9432720" y="326772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37480" y="3754440"/>
            <a:ext cx="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7120080" y="2744640"/>
            <a:ext cx="371160" cy="1084320"/>
            <a:chOff x="7120080" y="2744640"/>
            <a:chExt cx="371160" cy="1084320"/>
          </a:xfrm>
        </p:grpSpPr>
        <p:sp>
          <p:nvSpPr>
            <p:cNvPr id="663" name=""/>
            <p:cNvSpPr/>
            <p:nvPr/>
          </p:nvSpPr>
          <p:spPr>
            <a:xfrm>
              <a:off x="71200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4912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842652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37480" y="4524480"/>
            <a:ext cx="15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7984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165480" y="2744640"/>
            <a:ext cx="371160" cy="1084320"/>
            <a:chOff x="3165480" y="2744640"/>
            <a:chExt cx="371160" cy="1084320"/>
          </a:xfrm>
        </p:grpSpPr>
        <p:sp>
          <p:nvSpPr>
            <p:cNvPr id="669" name=""/>
            <p:cNvSpPr/>
            <p:nvPr/>
          </p:nvSpPr>
          <p:spPr>
            <a:xfrm>
              <a:off x="31654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5366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3444840" y="2700360"/>
            <a:ext cx="13824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40160" y="2738520"/>
            <a:ext cx="82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2626920" y="2731680"/>
            <a:ext cx="81756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2615760" y="2472840"/>
            <a:ext cx="830520" cy="2257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68680" y="2701440"/>
            <a:ext cx="1746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14680" y="2744640"/>
            <a:ext cx="190440" cy="57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029360" y="3841920"/>
            <a:ext cx="57240" cy="4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58160" y="3867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1650960" y="2385720"/>
            <a:ext cx="944640" cy="82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1650600" y="2674800"/>
            <a:ext cx="941400" cy="590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60720" y="3759120"/>
            <a:ext cx="54000" cy="6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86280" y="37893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rId2" action="ppaction://hlinksldjump"/>
          </p:cNvPr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rId3" action="ppaction://hlinksldjump"/>
          </p:cNvPr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5469120" y="2103120"/>
            <a:ext cx="298440" cy="182520"/>
            <a:chOff x="5469120" y="2103120"/>
            <a:chExt cx="298440" cy="182520"/>
          </a:xfrm>
        </p:grpSpPr>
        <p:grpSp>
          <p:nvGrpSpPr>
            <p:cNvPr id="690" name=""/>
            <p:cNvGrpSpPr/>
            <p:nvPr/>
          </p:nvGrpSpPr>
          <p:grpSpPr>
            <a:xfrm>
              <a:off x="5580360" y="2103120"/>
              <a:ext cx="187200" cy="182520"/>
              <a:chOff x="5580360" y="2103120"/>
              <a:chExt cx="187200" cy="182520"/>
            </a:xfrm>
          </p:grpSpPr>
          <p:sp>
            <p:nvSpPr>
              <p:cNvPr id="691" name=""/>
              <p:cNvSpPr/>
              <p:nvPr/>
            </p:nvSpPr>
            <p:spPr>
              <a:xfrm flipV="1" rot="16200000">
                <a:off x="5582520" y="2100240"/>
                <a:ext cx="182520" cy="18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5592600" y="2103840"/>
                <a:ext cx="161640" cy="180720"/>
                <a:chOff x="5592600" y="2103840"/>
                <a:chExt cx="161640" cy="180720"/>
              </a:xfrm>
            </p:grpSpPr>
            <p:sp>
              <p:nvSpPr>
                <p:cNvPr id="693" name=""/>
                <p:cNvSpPr/>
                <p:nvPr/>
              </p:nvSpPr>
              <p:spPr>
                <a:xfrm flipV="1" rot="21264000">
                  <a:off x="5600880" y="210600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 flipV="1" rot="336000">
                  <a:off x="5689080" y="2106000"/>
                  <a:ext cx="56520" cy="1760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 flipH="1">
              <a:off x="5469120" y="2193480"/>
              <a:ext cx="109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1394280" y="38736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A - C) - Einfahrt nach rec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2920" y="3305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6200000">
            <a:off x="3115800" y="380808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 rot="16200000">
            <a:off x="302796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6200000">
            <a:off x="302688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 rot="16200000">
            <a:off x="300132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03048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6200000">
            <a:off x="708660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 rot="16200000">
            <a:off x="699660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6200000">
            <a:off x="699552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23240" y="3761640"/>
            <a:ext cx="7128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6200000">
            <a:off x="696996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99912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06896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86704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67040" y="37623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67040" y="4524480"/>
            <a:ext cx="39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837120" y="3754440"/>
            <a:ext cx="16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899400" y="3902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994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95092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5128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51280" y="464328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67040" y="4753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65480" y="4645080"/>
            <a:ext cx="414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817000" y="4898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u Rückme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164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44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853920" y="2617920"/>
            <a:ext cx="1704600" cy="171360"/>
            <a:chOff x="853920" y="2617920"/>
            <a:chExt cx="1704600" cy="171360"/>
          </a:xfrm>
        </p:grpSpPr>
        <p:sp>
          <p:nvSpPr>
            <p:cNvPr id="725" name=""/>
            <p:cNvSpPr/>
            <p:nvPr/>
          </p:nvSpPr>
          <p:spPr>
            <a:xfrm>
              <a:off x="2446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392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2560680" y="2727360"/>
            <a:ext cx="100080" cy="87120"/>
            <a:chOff x="2560680" y="2727360"/>
            <a:chExt cx="100080" cy="87120"/>
          </a:xfrm>
        </p:grpSpPr>
        <p:sp>
          <p:nvSpPr>
            <p:cNvPr id="728" name=""/>
            <p:cNvSpPr/>
            <p:nvPr/>
          </p:nvSpPr>
          <p:spPr>
            <a:xfrm>
              <a:off x="260712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257508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6068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2558880" y="2390760"/>
            <a:ext cx="100080" cy="87480"/>
            <a:chOff x="2558880" y="2390760"/>
            <a:chExt cx="100080" cy="87480"/>
          </a:xfrm>
        </p:grpSpPr>
        <p:sp>
          <p:nvSpPr>
            <p:cNvPr id="732" name=""/>
            <p:cNvSpPr/>
            <p:nvPr/>
          </p:nvSpPr>
          <p:spPr>
            <a:xfrm>
              <a:off x="2605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2573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58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 flipH="1">
            <a:off x="741240" y="26748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435096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88760" y="3243240"/>
            <a:ext cx="129960" cy="410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733320" y="2725560"/>
            <a:ext cx="811440" cy="18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4476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9560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89208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744480" y="2386080"/>
            <a:ext cx="39686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89208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739800" y="24494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55940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44840" y="2700360"/>
            <a:ext cx="138240" cy="64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40160" y="2738520"/>
            <a:ext cx="82440" cy="468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32120" y="2733840"/>
            <a:ext cx="1781280" cy="28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 flipV="1">
            <a:off x="2626920" y="2731680"/>
            <a:ext cx="81756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2615760" y="2472840"/>
            <a:ext cx="830520" cy="225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568680" y="2701440"/>
            <a:ext cx="174600" cy="180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14680" y="2744640"/>
            <a:ext cx="190440" cy="57240"/>
          </a:xfrm>
          <a:prstGeom prst="line">
            <a:avLst/>
          </a:prstGeom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5940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9200" y="2662200"/>
            <a:ext cx="2444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60040" y="3055680"/>
            <a:ext cx="122760" cy="388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71628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42260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1650960" y="2430360"/>
            <a:ext cx="946080" cy="381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1634760" y="2730240"/>
            <a:ext cx="97164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1609560" y="2154240"/>
            <a:ext cx="177840" cy="76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501560" y="2187720"/>
            <a:ext cx="10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33920" y="303696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543560" y="3349800"/>
            <a:ext cx="91728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18000" y="327636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4655880" y="320256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728960" y="3074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93600" y="309240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59480" y="327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949240" y="23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585280" y="3033720"/>
            <a:ext cx="9158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496360" y="3346560"/>
            <a:ext cx="9158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824360" y="2617920"/>
            <a:ext cx="1703160" cy="171360"/>
            <a:chOff x="4824360" y="2617920"/>
            <a:chExt cx="1703160" cy="171360"/>
          </a:xfrm>
        </p:grpSpPr>
        <p:sp>
          <p:nvSpPr>
            <p:cNvPr id="773" name=""/>
            <p:cNvSpPr/>
            <p:nvPr/>
          </p:nvSpPr>
          <p:spPr>
            <a:xfrm>
              <a:off x="6415920" y="278928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24360" y="261792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6529320" y="2727360"/>
            <a:ext cx="100080" cy="87120"/>
            <a:chOff x="6529320" y="2727360"/>
            <a:chExt cx="100080" cy="87120"/>
          </a:xfrm>
        </p:grpSpPr>
        <p:sp>
          <p:nvSpPr>
            <p:cNvPr id="776" name=""/>
            <p:cNvSpPr/>
            <p:nvPr/>
          </p:nvSpPr>
          <p:spPr>
            <a:xfrm>
              <a:off x="6575760" y="2727360"/>
              <a:ext cx="720" cy="8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543720" y="27439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29320" y="276480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527880" y="2390760"/>
            <a:ext cx="100080" cy="87480"/>
            <a:chOff x="6527880" y="2390760"/>
            <a:chExt cx="100080" cy="87480"/>
          </a:xfrm>
        </p:grpSpPr>
        <p:sp>
          <p:nvSpPr>
            <p:cNvPr id="780" name=""/>
            <p:cNvSpPr/>
            <p:nvPr/>
          </p:nvSpPr>
          <p:spPr>
            <a:xfrm>
              <a:off x="6574320" y="239076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542280" y="240732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27880" y="242784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 flipH="1">
            <a:off x="8321400" y="3118320"/>
            <a:ext cx="57600" cy="18180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58120" y="324288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513400" y="2727360"/>
            <a:ext cx="1047600" cy="824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564240" y="2811600"/>
            <a:ext cx="1944720" cy="5382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862520" y="2620800"/>
            <a:ext cx="0" cy="10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 flipV="1">
            <a:off x="4712760" y="2386080"/>
            <a:ext cx="397044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862520" y="2385720"/>
            <a:ext cx="0" cy="204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592520" y="2449440"/>
            <a:ext cx="25416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547120" y="2436840"/>
            <a:ext cx="13824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8528040" y="2386080"/>
            <a:ext cx="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13480" y="2700360"/>
            <a:ext cx="13824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08800" y="2738520"/>
            <a:ext cx="82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701120" y="2733840"/>
            <a:ext cx="98892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6597720" y="2731680"/>
            <a:ext cx="81576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6585120" y="2472840"/>
            <a:ext cx="830160" cy="22572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7537320" y="2701440"/>
            <a:ext cx="1764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485120" y="2744640"/>
            <a:ext cx="189000" cy="57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528040" y="2529000"/>
            <a:ext cx="0" cy="1965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548560" y="266220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28680" y="3054960"/>
            <a:ext cx="124200" cy="392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84920" y="27766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391240" y="2993400"/>
            <a:ext cx="32400" cy="102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496360" y="3279600"/>
            <a:ext cx="131760" cy="41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634240" y="3206160"/>
            <a:ext cx="57600" cy="1821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706960" y="3076920"/>
            <a:ext cx="32400" cy="1026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571960" y="3095640"/>
            <a:ext cx="12996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 rot="1077000">
            <a:off x="5470200" y="326340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266560" y="1752480"/>
            <a:ext cx="1180080" cy="307080"/>
            <a:chOff x="2266560" y="1752480"/>
            <a:chExt cx="1180080" cy="307080"/>
          </a:xfrm>
        </p:grpSpPr>
        <p:sp>
          <p:nvSpPr>
            <p:cNvPr id="811" name=""/>
            <p:cNvSpPr/>
            <p:nvPr/>
          </p:nvSpPr>
          <p:spPr>
            <a:xfrm>
              <a:off x="2266560" y="1752480"/>
              <a:ext cx="115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Times New Roman"/>
                </a:rPr>
                <a:t>Fahrtrich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40000" y="2057040"/>
              <a:ext cx="11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623120" y="2953440"/>
            <a:ext cx="1005840" cy="29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994800">
            <a:off x="4820040" y="289368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 rot="1077000">
            <a:off x="9432720" y="326772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37480" y="3754440"/>
            <a:ext cx="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7120080" y="2744640"/>
            <a:ext cx="371160" cy="1084320"/>
            <a:chOff x="7120080" y="2744640"/>
            <a:chExt cx="371160" cy="1084320"/>
          </a:xfrm>
        </p:grpSpPr>
        <p:sp>
          <p:nvSpPr>
            <p:cNvPr id="818" name=""/>
            <p:cNvSpPr/>
            <p:nvPr/>
          </p:nvSpPr>
          <p:spPr>
            <a:xfrm>
              <a:off x="71200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74912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842652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837480" y="4524480"/>
            <a:ext cx="15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79840" y="3071880"/>
            <a:ext cx="0" cy="145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3165480" y="2744640"/>
            <a:ext cx="371160" cy="1084320"/>
            <a:chOff x="3165480" y="2744640"/>
            <a:chExt cx="371160" cy="1084320"/>
          </a:xfrm>
        </p:grpSpPr>
        <p:sp>
          <p:nvSpPr>
            <p:cNvPr id="824" name=""/>
            <p:cNvSpPr/>
            <p:nvPr/>
          </p:nvSpPr>
          <p:spPr>
            <a:xfrm>
              <a:off x="3165480" y="3828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536640" y="274464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 flipH="1" flipV="1">
            <a:off x="5605560" y="2385720"/>
            <a:ext cx="968400" cy="82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5578200" y="2674800"/>
            <a:ext cx="982440" cy="590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62160" y="3843360"/>
            <a:ext cx="572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095640" y="38671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>
            <a:hlinkClick r:id="rId2" action="ppaction://hlinksldjump"/>
          </p:cNvPr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>
            <a:hlinkClick r:id="rId3" action="ppaction://hlinksldjump"/>
          </p:cNvPr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397160" y="38736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inbindung in einer Fahrstrasse (A - D) - Ausfahrt vo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937116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53720" y="22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7366320" y="3095640"/>
            <a:ext cx="1704600" cy="171360"/>
            <a:chOff x="7366320" y="3095640"/>
            <a:chExt cx="1704600" cy="171360"/>
          </a:xfrm>
        </p:grpSpPr>
        <p:sp>
          <p:nvSpPr>
            <p:cNvPr id="840" name=""/>
            <p:cNvSpPr/>
            <p:nvPr/>
          </p:nvSpPr>
          <p:spPr>
            <a:xfrm flipH="1">
              <a:off x="736632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98092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264440" y="3069720"/>
            <a:ext cx="100080" cy="87480"/>
            <a:chOff x="7264440" y="3069720"/>
            <a:chExt cx="100080" cy="87480"/>
          </a:xfrm>
        </p:grpSpPr>
        <p:sp>
          <p:nvSpPr>
            <p:cNvPr id="843" name=""/>
            <p:cNvSpPr/>
            <p:nvPr/>
          </p:nvSpPr>
          <p:spPr>
            <a:xfrm flipH="1" flipV="1">
              <a:off x="7317360" y="30697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288920" y="30945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264440" y="31201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7265880" y="3406320"/>
            <a:ext cx="100080" cy="87480"/>
            <a:chOff x="7265880" y="3406320"/>
            <a:chExt cx="100080" cy="87480"/>
          </a:xfrm>
        </p:grpSpPr>
        <p:sp>
          <p:nvSpPr>
            <p:cNvPr id="847" name=""/>
            <p:cNvSpPr/>
            <p:nvPr/>
          </p:nvSpPr>
          <p:spPr>
            <a:xfrm flipH="1" flipV="1">
              <a:off x="7318800" y="34063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290360" y="34311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265880" y="34567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9045720" y="3209760"/>
            <a:ext cx="13788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51628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405400" y="2600280"/>
            <a:ext cx="130320" cy="410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8380440" y="3157560"/>
            <a:ext cx="811080" cy="1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7332840" y="3074760"/>
            <a:ext cx="104760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5384880" y="2534760"/>
            <a:ext cx="194472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032760" y="3157560"/>
            <a:ext cx="0" cy="106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211720" y="3497400"/>
            <a:ext cx="3968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32760" y="3294000"/>
            <a:ext cx="0" cy="20484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047160" y="343548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65800" y="3395520"/>
            <a:ext cx="0" cy="1033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6341760" y="3178080"/>
            <a:ext cx="13788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6402240" y="3141360"/>
            <a:ext cx="8280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4411440" y="3147480"/>
            <a:ext cx="1780920" cy="32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80000" y="3151080"/>
            <a:ext cx="81756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8560" y="3186000"/>
            <a:ext cx="830160" cy="225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6181560" y="3181320"/>
            <a:ext cx="17496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6219360" y="3083040"/>
            <a:ext cx="190440" cy="56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5365800" y="3158640"/>
            <a:ext cx="0" cy="1969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5100480" y="3222720"/>
            <a:ext cx="2448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5341320" y="2790360"/>
            <a:ext cx="122760" cy="388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5291280" y="2847600"/>
            <a:ext cx="91728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7020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327800" y="3416400"/>
            <a:ext cx="946080" cy="381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318440" y="3149640"/>
            <a:ext cx="97164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8137440" y="3654360"/>
            <a:ext cx="285840" cy="76320"/>
            <a:chOff x="8137440" y="3654360"/>
            <a:chExt cx="285840" cy="76320"/>
          </a:xfrm>
        </p:grpSpPr>
        <p:sp>
          <p:nvSpPr>
            <p:cNvPr id="876" name=""/>
            <p:cNvSpPr/>
            <p:nvPr/>
          </p:nvSpPr>
          <p:spPr>
            <a:xfrm>
              <a:off x="8245440" y="3654360"/>
              <a:ext cx="17784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8137440" y="3697200"/>
              <a:ext cx="1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 flipH="1" flipV="1">
            <a:off x="4374720" y="2587320"/>
            <a:ext cx="91620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4463640" y="2274480"/>
            <a:ext cx="91764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163840" y="2499480"/>
            <a:ext cx="243360" cy="311040"/>
            <a:chOff x="5163840" y="2499480"/>
            <a:chExt cx="243360" cy="311040"/>
          </a:xfrm>
        </p:grpSpPr>
        <p:sp>
          <p:nvSpPr>
            <p:cNvPr id="881" name=""/>
            <p:cNvSpPr/>
            <p:nvPr/>
          </p:nvSpPr>
          <p:spPr>
            <a:xfrm flipH="1" flipV="1">
              <a:off x="5276520" y="2566440"/>
              <a:ext cx="130680" cy="414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5211000" y="2499480"/>
              <a:ext cx="57600" cy="1818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5163840" y="2707560"/>
              <a:ext cx="32400" cy="10296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5201280" y="2750760"/>
              <a:ext cx="130680" cy="4140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 flipH="1">
            <a:off x="3981240" y="215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576360" y="3056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>
            <a:hlinkClick r:id="rId1" action="ppaction://hlinksldjump"/>
          </p:cNvPr>
          <p:cNvSpPr/>
          <p:nvPr/>
        </p:nvSpPr>
        <p:spPr>
          <a:xfrm>
            <a:off x="4172040" y="551016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>
            <a:hlinkClick r:id="rId2" action="ppaction://hlinksldjump"/>
          </p:cNvPr>
          <p:cNvSpPr/>
          <p:nvPr/>
        </p:nvSpPr>
        <p:spPr>
          <a:xfrm>
            <a:off x="4172040" y="5749920"/>
            <a:ext cx="129960" cy="16020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200"/>
              <a:gd name="textAreaBottom" fmla="*/ 151920 h 160200"/>
            </a:gdLst>
            <a:ahLst/>
            <a:rect l="textAreaLeft" t="textAreaTop" r="textAreaRight" b="textAreaBottom"/>
            <a:pathLst>
              <a:path w="21600" h="26612">
                <a:moveTo>
                  <a:pt x="0" y="0"/>
                </a:moveTo>
                <a:lnTo>
                  <a:pt x="21600" y="0"/>
                </a:lnTo>
                <a:lnTo>
                  <a:pt x="21600" y="26612"/>
                </a:lnTo>
                <a:lnTo>
                  <a:pt x="0" y="26612"/>
                </a:lnTo>
                <a:close/>
              </a:path>
              <a:path fill="lightenLess" w="21600" h="26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2">
                <a:moveTo>
                  <a:pt x="21600" y="0"/>
                </a:moveTo>
                <a:lnTo>
                  <a:pt x="21600" y="26612"/>
                </a:lnTo>
                <a:lnTo>
                  <a:pt x="20200" y="25212"/>
                </a:lnTo>
                <a:lnTo>
                  <a:pt x="20200" y="1400"/>
                </a:lnTo>
                <a:close/>
              </a:path>
              <a:path fill="darkenLess" w="21600" h="26612">
                <a:moveTo>
                  <a:pt x="21600" y="26612"/>
                </a:moveTo>
                <a:lnTo>
                  <a:pt x="0" y="26612"/>
                </a:lnTo>
                <a:lnTo>
                  <a:pt x="1400" y="25212"/>
                </a:lnTo>
                <a:lnTo>
                  <a:pt x="20200" y="25212"/>
                </a:lnTo>
                <a:close/>
              </a:path>
              <a:path fill="lighten" w="21600" h="26612">
                <a:moveTo>
                  <a:pt x="0" y="26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2"/>
                </a:lnTo>
                <a:close/>
              </a:path>
              <a:path fill="darken" w="21600" h="26612">
                <a:moveTo>
                  <a:pt x="3794" y="6300"/>
                </a:moveTo>
                <a:lnTo>
                  <a:pt x="17806" y="13306"/>
                </a:lnTo>
                <a:lnTo>
                  <a:pt x="3794" y="203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4172040" y="5991120"/>
            <a:ext cx="129960" cy="160560"/>
          </a:xfrm>
          <a:custGeom>
            <a:avLst/>
            <a:gdLst>
              <a:gd name="textAreaLeft" fmla="*/ 8280 w 129960"/>
              <a:gd name="textAreaRight" fmla="*/ 121680 w 129960"/>
              <a:gd name="textAreaTop" fmla="*/ 8280 h 160560"/>
              <a:gd name="textAreaBottom" fmla="*/ 152280 h 160560"/>
            </a:gdLst>
            <a:ahLst/>
            <a:rect l="textAreaLeft" t="textAreaTop" r="textAreaRight" b="textAreaBottom"/>
            <a:pathLst>
              <a:path w="21600" h="26672">
                <a:moveTo>
                  <a:pt x="0" y="0"/>
                </a:moveTo>
                <a:lnTo>
                  <a:pt x="21600" y="0"/>
                </a:lnTo>
                <a:lnTo>
                  <a:pt x="21600" y="26672"/>
                </a:lnTo>
                <a:lnTo>
                  <a:pt x="0" y="26672"/>
                </a:lnTo>
                <a:close/>
              </a:path>
              <a:path fill="lightenLess" w="21600" h="26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72">
                <a:moveTo>
                  <a:pt x="21600" y="0"/>
                </a:moveTo>
                <a:lnTo>
                  <a:pt x="21600" y="26672"/>
                </a:lnTo>
                <a:lnTo>
                  <a:pt x="20200" y="25272"/>
                </a:lnTo>
                <a:lnTo>
                  <a:pt x="20200" y="1400"/>
                </a:lnTo>
                <a:close/>
              </a:path>
              <a:path fill="darkenLess" w="21600" h="26672">
                <a:moveTo>
                  <a:pt x="21600" y="26672"/>
                </a:moveTo>
                <a:lnTo>
                  <a:pt x="0" y="26672"/>
                </a:lnTo>
                <a:lnTo>
                  <a:pt x="1400" y="25272"/>
                </a:lnTo>
                <a:lnTo>
                  <a:pt x="20200" y="25272"/>
                </a:lnTo>
                <a:close/>
              </a:path>
              <a:path fill="lighten" w="21600" h="26672">
                <a:moveTo>
                  <a:pt x="0" y="26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72"/>
                </a:lnTo>
                <a:close/>
              </a:path>
              <a:path fill="darken" w="21600" h="26672">
                <a:moveTo>
                  <a:pt x="3794" y="6329"/>
                </a:moveTo>
                <a:lnTo>
                  <a:pt x="17806" y="13336"/>
                </a:lnTo>
                <a:lnTo>
                  <a:pt x="3794" y="2034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365720" y="54100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A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365720" y="56656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C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65720" y="591984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strasse B -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423360" y="2590560"/>
            <a:ext cx="91620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512280" y="2277720"/>
            <a:ext cx="916200" cy="260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3397320" y="3095640"/>
            <a:ext cx="1702800" cy="171360"/>
            <a:chOff x="3397320" y="3095640"/>
            <a:chExt cx="1702800" cy="171360"/>
          </a:xfrm>
        </p:grpSpPr>
        <p:sp>
          <p:nvSpPr>
            <p:cNvPr id="896" name=""/>
            <p:cNvSpPr/>
            <p:nvPr/>
          </p:nvSpPr>
          <p:spPr>
            <a:xfrm flipH="1">
              <a:off x="3397320" y="3095640"/>
              <a:ext cx="11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5010120" y="3267000"/>
              <a:ext cx="9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95440" y="3069720"/>
            <a:ext cx="99720" cy="87480"/>
            <a:chOff x="3295440" y="3069720"/>
            <a:chExt cx="99720" cy="87480"/>
          </a:xfrm>
        </p:grpSpPr>
        <p:sp>
          <p:nvSpPr>
            <p:cNvPr id="899" name=""/>
            <p:cNvSpPr/>
            <p:nvPr/>
          </p:nvSpPr>
          <p:spPr>
            <a:xfrm flipH="1" flipV="1">
              <a:off x="3348000" y="30697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319560" y="3094560"/>
              <a:ext cx="6084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295440" y="3120120"/>
              <a:ext cx="9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297240" y="3406320"/>
            <a:ext cx="100080" cy="87480"/>
            <a:chOff x="3297240" y="3406320"/>
            <a:chExt cx="100080" cy="87480"/>
          </a:xfrm>
        </p:grpSpPr>
        <p:sp>
          <p:nvSpPr>
            <p:cNvPr id="903" name=""/>
            <p:cNvSpPr/>
            <p:nvPr/>
          </p:nvSpPr>
          <p:spPr>
            <a:xfrm flipH="1" flipV="1">
              <a:off x="3350160" y="3406320"/>
              <a:ext cx="720" cy="8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3321720" y="3431160"/>
              <a:ext cx="61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297240" y="3456720"/>
              <a:ext cx="100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 flipV="1">
            <a:off x="1545840" y="2583720"/>
            <a:ext cx="57600" cy="18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434960" y="2599920"/>
            <a:ext cx="131400" cy="417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 flipV="1">
            <a:off x="3363480" y="3074760"/>
            <a:ext cx="1047960" cy="824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 flipV="1">
            <a:off x="1415880" y="2534760"/>
            <a:ext cx="1944720" cy="538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062680" y="3157560"/>
            <a:ext cx="0" cy="106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497400"/>
            <a:ext cx="39704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62680" y="3294000"/>
            <a:ext cx="0" cy="20484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078520" y="3435480"/>
            <a:ext cx="2538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239840" y="3448080"/>
            <a:ext cx="13824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397160" y="3395520"/>
            <a:ext cx="0" cy="10332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2373120" y="3178080"/>
            <a:ext cx="137880" cy="64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433240" y="3141360"/>
            <a:ext cx="82440" cy="46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1234800" y="3149640"/>
            <a:ext cx="988920" cy="1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11360" y="3151080"/>
            <a:ext cx="816120" cy="18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09920" y="3186000"/>
            <a:ext cx="830160" cy="2253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2211120" y="3181320"/>
            <a:ext cx="176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2250720" y="3083040"/>
            <a:ext cx="189000" cy="56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397160" y="3158640"/>
            <a:ext cx="0" cy="1969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1238040" y="3222720"/>
            <a:ext cx="13788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 flipV="1">
            <a:off x="1371240" y="2790000"/>
            <a:ext cx="124560" cy="3960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 flipV="1">
            <a:off x="1321920" y="2847600"/>
            <a:ext cx="917640" cy="260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1501560" y="2788560"/>
            <a:ext cx="32400" cy="10296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59160" y="3416400"/>
            <a:ext cx="946080" cy="381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348000" y="3149640"/>
            <a:ext cx="971640" cy="468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168440" y="3654360"/>
            <a:ext cx="285840" cy="76320"/>
            <a:chOff x="4168440" y="3654360"/>
            <a:chExt cx="285840" cy="76320"/>
          </a:xfrm>
        </p:grpSpPr>
        <p:sp>
          <p:nvSpPr>
            <p:cNvPr id="931" name=""/>
            <p:cNvSpPr/>
            <p:nvPr/>
          </p:nvSpPr>
          <p:spPr>
            <a:xfrm>
              <a:off x="4277160" y="3654360"/>
              <a:ext cx="177120" cy="76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168440" y="3696480"/>
              <a:ext cx="10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185840" y="2496240"/>
            <a:ext cx="243000" cy="311040"/>
            <a:chOff x="1185840" y="2496240"/>
            <a:chExt cx="243000" cy="311040"/>
          </a:xfrm>
        </p:grpSpPr>
        <p:sp>
          <p:nvSpPr>
            <p:cNvPr id="934" name=""/>
            <p:cNvSpPr/>
            <p:nvPr/>
          </p:nvSpPr>
          <p:spPr>
            <a:xfrm flipH="1" flipV="1">
              <a:off x="1297800" y="2563200"/>
              <a:ext cx="131040" cy="4176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1233000" y="2496240"/>
              <a:ext cx="57600" cy="1818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1185840" y="2704320"/>
              <a:ext cx="32400" cy="10296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1222200" y="2747520"/>
              <a:ext cx="131040" cy="4176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 flipH="1" rot="11757600">
            <a:off x="479160" y="2266560"/>
            <a:ext cx="10296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 flipV="1" rot="5400000">
            <a:off x="567216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 flipV="1" rot="5400000">
            <a:off x="576072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 rot="5400000">
            <a:off x="575964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700240" y="3761640"/>
            <a:ext cx="7308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 flipV="1" rot="5400000">
            <a:off x="562860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566064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5944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59440" y="358776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72760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5520960" y="2647800"/>
            <a:ext cx="4381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 rot="5400000">
            <a:off x="1701720" y="3808440"/>
            <a:ext cx="38160" cy="41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 flipV="1" rot="5400000">
            <a:off x="1792080" y="3730680"/>
            <a:ext cx="363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 flipV="1" rot="5400000">
            <a:off x="1791000" y="3877920"/>
            <a:ext cx="38160" cy="41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1731960" y="3761640"/>
            <a:ext cx="71280" cy="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 rot="5400000">
            <a:off x="1659960" y="4026600"/>
            <a:ext cx="196560" cy="1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1692000" y="4057200"/>
            <a:ext cx="1350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989000" y="2771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989000" y="3587760"/>
            <a:ext cx="0" cy="11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757520" y="3797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1550520" y="2647800"/>
            <a:ext cx="4381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773680" y="376236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959440" y="3762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1988640" y="4524480"/>
            <a:ext cx="39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7360" y="3754440"/>
            <a:ext cx="16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819440" y="390204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2708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800680" y="3902040"/>
            <a:ext cx="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875200" y="390204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926720" y="4643280"/>
            <a:ext cx="39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939320" y="4645080"/>
            <a:ext cx="1662840" cy="560880"/>
            <a:chOff x="1939320" y="4645080"/>
            <a:chExt cx="1662840" cy="560880"/>
          </a:xfrm>
        </p:grpSpPr>
        <p:sp>
          <p:nvSpPr>
            <p:cNvPr id="969" name=""/>
            <p:cNvSpPr/>
            <p:nvPr/>
          </p:nvSpPr>
          <p:spPr>
            <a:xfrm>
              <a:off x="1939320" y="489888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u Rückmel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989360" y="4753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87800" y="4645080"/>
              <a:ext cx="414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>
            <a:off x="3772080" y="47530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rot="11757600">
            <a:off x="4408920" y="2274480"/>
            <a:ext cx="103320" cy="74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500520" y="36100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Fahrtrich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478560" y="3914640"/>
            <a:ext cx="1106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574280" y="3184560"/>
            <a:ext cx="711720" cy="638280"/>
            <a:chOff x="1574280" y="3184560"/>
            <a:chExt cx="711720" cy="638280"/>
          </a:xfrm>
        </p:grpSpPr>
        <p:sp>
          <p:nvSpPr>
            <p:cNvPr id="977" name=""/>
            <p:cNvSpPr/>
            <p:nvPr/>
          </p:nvSpPr>
          <p:spPr>
            <a:xfrm flipH="1">
              <a:off x="1574280" y="382284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1574640" y="335556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74640" y="335592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2286000" y="318456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544720" y="3186000"/>
            <a:ext cx="711720" cy="638280"/>
            <a:chOff x="5544720" y="3186000"/>
            <a:chExt cx="711720" cy="638280"/>
          </a:xfrm>
        </p:grpSpPr>
        <p:sp>
          <p:nvSpPr>
            <p:cNvPr id="982" name=""/>
            <p:cNvSpPr/>
            <p:nvPr/>
          </p:nvSpPr>
          <p:spPr>
            <a:xfrm flipH="1">
              <a:off x="5544720" y="382428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545080" y="335700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45080" y="335736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6256440" y="31860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33520" y="2209680"/>
            <a:ext cx="942840" cy="27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rot="969600">
            <a:off x="419400" y="20444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Profil mit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1:48:47Z</dcterms:created>
  <dc:creator>Default</dc:creator>
  <dc:description/>
  <dc:language>en-US</dc:language>
  <cp:lastModifiedBy>Default</cp:lastModifiedBy>
  <cp:lastPrinted>2001-04-26T09:06:26Z</cp:lastPrinted>
  <dcterms:modified xsi:type="dcterms:W3CDTF">2002-02-26T08:26:59Z</dcterms:modified>
  <cp:revision>112</cp:revision>
  <dc:subject/>
  <dc:title>No Slide Title</dc:title>
</cp:coreProperties>
</file>